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5295-A15A-4DAA-858D-AEF32929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8E12-6BD8-4B63-B832-4A336642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9F98-36FE-4718-88BB-516C4A31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0095-531F-45D1-940E-C023E246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1815A-3F57-4AF0-9748-4B66DACF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36BDB-E02E-460A-BDFF-9AD1EF10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0B7AF-24E9-42A0-882F-38237574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70F3E-C187-4603-87D9-62B565AA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E7F65-9D2B-41BA-866A-77B9D83F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DB739-925D-4617-9DCA-FC8735CA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D4A95-0171-47CC-AFC0-F8424D52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87DC-F5FB-4B5C-A2FF-747F18ED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19D42-A1BF-47D6-B1BF-0BBAAE43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EEDC0-C01A-41F0-A141-261FBCAE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5787F-D491-4451-9378-9A1B07E6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1613F-BD62-49BD-B57D-077B957D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D5059-002E-4FFB-9B8D-3CDB8FDB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99D-2558-434F-8630-DCBBBDF0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260D-12D8-40D1-B267-F42514AE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7398-A4EB-47EA-A7DE-5AB2B06D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14D0-D3CF-4D89-82DF-3D3B8D30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37F0-FAEB-4D22-86AF-3EB8A3DF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9FDC-D167-4F3D-86B2-B8FF67C2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0FF-800F-47FF-8DA9-3BED8B7A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A959-5825-4BF3-826E-3B80001F073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226F-8302-4B6C-947C-259324CAE6E1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skko.edu.pl/ozni8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578880" y="403560"/>
            <a:ext cx="810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Comic Sans MS"/>
              </a:rPr>
              <a:t>TRZYNASTOZGŁOSKOWIEC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Comic Sans MS"/>
              </a:rPr>
              <a:t>na zamówie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Comic Sans MS"/>
              </a:rPr>
              <a:t>czyl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pl-PL" sz="3200" spc="-1" strike="noStrike">
                <a:solidFill>
                  <a:srgbClr val="ffffff"/>
                </a:solidFill>
                <a:latin typeface="Comic Sans MS"/>
              </a:rPr>
              <a:t>o kompetencjach kluczowych inaczej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39640" y="3789360"/>
            <a:ext cx="38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TEKS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Comic Sans MS"/>
              </a:rPr>
              <a:t>MAŁGOSI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Comic Sans MS"/>
              </a:rPr>
              <a:t>WOJNAROWS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4932360" y="2492280"/>
            <a:ext cx="3352680" cy="4203720"/>
          </a:xfrm>
          <a:prstGeom prst="rect">
            <a:avLst/>
          </a:prstGeom>
          <a:ln w="0">
            <a:noFill/>
          </a:ln>
        </p:spPr>
      </p:pic>
      <p:sp>
        <p:nvSpPr>
          <p:cNvPr id="86" name="pole tekstowe 4"/>
          <p:cNvSpPr/>
          <p:nvPr/>
        </p:nvSpPr>
        <p:spPr>
          <a:xfrm>
            <a:off x="428760" y="6000840"/>
            <a:ext cx="3857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www.oskko.edu.pl/ozni8/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0" y="760320"/>
            <a:ext cx="633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Nie dziwcie się drastycznym przykładom niniejszym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to wpływ sprawdzania matur w całym dniu dzisiejszy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Spośród KLUCZOWYCH to mi KLUCZ jedynie osta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i arkusz rozszerzony, który mi się dosta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Zakończę moi mili, bo już na mnie po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Zachciało mi się – kurka – egzaminatora! </a:t>
            </a:r>
            <a:r>
              <a:rPr b="0" lang="pl-P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Ale gorzej ma Ala – tak myślę – o rany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bo ona tam przerabia jakieś wielomiany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u5136"/>
          <p:cNvPicPr/>
          <p:nvPr/>
        </p:nvPicPr>
        <p:blipFill>
          <a:blip r:embed="rId1"/>
          <a:stretch/>
        </p:blipFill>
        <p:spPr>
          <a:xfrm>
            <a:off x="6262560" y="3429000"/>
            <a:ext cx="288144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766800" y="401400"/>
            <a:ext cx="759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Jak inni nieobecni mam jednak intencj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że za rok też poćwiczę z Wami KOMPETENCJ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Ale byłabym wdzięczna, gdyby naturaln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można było trenować tak bardziej centralni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Nie mam nic przeciw morzu, Romanie, no co Ty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Ale przecież najlepszy jest ów środek złot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Jednak byłoby  całkiem, kompletnie już cudni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Gdyby ten środek przesunąć bardziej na południe </a:t>
            </a:r>
            <a:r>
              <a:rPr b="0" lang="pl-P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137960" y="4075200"/>
            <a:ext cx="643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Pozdrawiam więc Azorka, ukłon Neptunow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wracajcie odprężeni, weseli i zdrow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633200" y="5300640"/>
            <a:ext cx="27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MAŁGOS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1403640" y="3061080"/>
            <a:ext cx="632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Wszystkich KLUCZOWYCH to my tu nie przerobimy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lecz trochę LITERACKO się, owszem, wzmocnim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SPOŁECZNIE podziałamy interpersonalni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z EKSPRESJĄ się wstrzymamy bardzo KULTURALNI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choć to będzie dość trudne </a:t>
            </a:r>
            <a:r>
              <a:rPr b="0" lang="pl-P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. Pozdrawiamy z dala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Zdrówko! Całuski! Gaba, Małgosia i Al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619280" y="0"/>
            <a:ext cx="6048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atenczas będzie aneks. Zlocik pocieszal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robimy tu w Krakowie, taki kameraln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ie żeby konkurencja, gdzie nam do kurortu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wszak Kraków ani plaży nie ma, ani portu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Zlotowiczom zazdroszcząc dopełniamy ony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działając na zasadzie naczyń połączonyc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Sobota, osiemnasta. Adres: Mały Ryne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Żaden tam Copernicus ani też Wierzyne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Gaba sprawdziła lokal, położon piwniczni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rzucam więc swe arkusze, śpieszę się panicznie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u5136"/>
          <p:cNvPicPr/>
          <p:nvPr/>
        </p:nvPicPr>
        <p:blipFill>
          <a:blip r:embed="rId1"/>
          <a:stretch/>
        </p:blipFill>
        <p:spPr>
          <a:xfrm>
            <a:off x="6948360" y="4991040"/>
            <a:ext cx="1944720" cy="1866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179280" y="4581360"/>
            <a:ext cx="1816200" cy="2276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3"/>
          <a:stretch/>
        </p:blipFill>
        <p:spPr>
          <a:xfrm>
            <a:off x="3492360" y="4941720"/>
            <a:ext cx="13575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1619280" y="189000"/>
            <a:ext cx="6551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Znów rok minął, lecz jakoś nie cieszę się wcal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Gwóźdź programu nie dla mnie tym razem jest, ale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Napiszę dziś co nieco – to na prośbę Bosi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bo jak mogę odmówić, kiedy ładnie prosi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5" descr="P5220121"/>
          <p:cNvPicPr/>
          <p:nvPr/>
        </p:nvPicPr>
        <p:blipFill>
          <a:blip r:embed="rId1"/>
          <a:stretch/>
        </p:blipFill>
        <p:spPr>
          <a:xfrm>
            <a:off x="2771640" y="1484280"/>
            <a:ext cx="3463920" cy="25970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1547640" y="4292640"/>
            <a:ext cx="64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Zlot na forum już sobie dojrzewa powol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i ludzkość się nastraja, a mnie dusza boli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Matka Aza się krząta swą rolą przejęta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pogodę przepowiada, ręczniki pamięt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Ojciec Roman też czuwa (choć na forum z rzadka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by zlotu nie popsuła jakaś większa wpadk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Wszak mniejsza nie popsuje, nawet jest wskazana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bo o czym potem pisać, proszę Pani/Pana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1258920" y="189000"/>
            <a:ext cx="624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Myślę, że choć jest morze, plaża, wszystko ślicznie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to kiedyś było bardziej tak …ekologiczni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Chociaż moja frekwencja prazlotu nie sięg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wiem, że kiedyś bywała urocza siermięg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więcej natury, niewygód, insektów, kłopotów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zloty bez projektorów, pokazów, laptopów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Takie czasy są jednak – także i zlotow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wciąż kompetencje trzeba kształtować – KLUCZOW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6" descr="P5220111"/>
          <p:cNvPicPr/>
          <p:nvPr/>
        </p:nvPicPr>
        <p:blipFill>
          <a:blip r:embed="rId1"/>
          <a:stretch/>
        </p:blipFill>
        <p:spPr>
          <a:xfrm>
            <a:off x="2050920" y="2997360"/>
            <a:ext cx="483264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68360" y="981000"/>
            <a:ext cx="50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TECHNOLOGIA już dawno wkradła się na zlo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multimedialnej ludziom dodając robot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JĘZYK OJCZYSTY zgłębiać będziecie toma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literatury różnej (niektórzy seriami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Może z Niemiec kto zajrzy, to się i pog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W ICH JĘZYKU (Magosia tym razem odpada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mic Sans MS"/>
              </a:rPr>
              <a:t>konkurs w Niemcach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z_2051[1]"/>
          <p:cNvPicPr/>
          <p:nvPr/>
        </p:nvPicPr>
        <p:blipFill>
          <a:blip r:embed="rId1"/>
          <a:stretch/>
        </p:blipFill>
        <p:spPr>
          <a:xfrm>
            <a:off x="6084720" y="3429000"/>
            <a:ext cx="22719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900000" y="260280"/>
            <a:ext cx="72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UCZENIE także zapewnio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zlot uczy różnych rzeczy, będą więc ćwiczo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PRZEDSIĘBIORCZOŚĆ, a może też INICJATYWNOŚ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(gdy się literatura skończy albo żywność </a:t>
            </a:r>
            <a:r>
              <a:rPr b="0" lang="pl-P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P5220114"/>
          <p:cNvPicPr/>
          <p:nvPr/>
        </p:nvPicPr>
        <p:blipFill>
          <a:blip r:embed="rId1"/>
          <a:stretch/>
        </p:blipFill>
        <p:spPr>
          <a:xfrm>
            <a:off x="250920" y="191628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P5220112"/>
          <p:cNvPicPr/>
          <p:nvPr/>
        </p:nvPicPr>
        <p:blipFill>
          <a:blip r:embed="rId2"/>
          <a:stretch/>
        </p:blipFill>
        <p:spPr>
          <a:xfrm>
            <a:off x="4572000" y="3141720"/>
            <a:ext cx="43639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2209320" y="-3600"/>
            <a:ext cx="6628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Bardzo ważne co roku zlotowe atrakc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to są SPOŁECZNE różne takie interakcj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EKSPRESJĘ KULTURALNĄ zrobicie – śpiewaną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na różniste sposoby zawsze uprawian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(z ekspresjonizmem tego mylić nie próbujci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bo to Gusi jest patent, więc go uszanujcie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Ku rozpaczy niektórych więcej pośpiewaci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bo Roman karaoke wymyślił. Ojaci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6" descr="P5220109"/>
          <p:cNvPicPr/>
          <p:nvPr/>
        </p:nvPicPr>
        <p:blipFill>
          <a:blip r:embed="rId1"/>
          <a:stretch/>
        </p:blipFill>
        <p:spPr>
          <a:xfrm>
            <a:off x="2484360" y="3357720"/>
            <a:ext cx="4535640" cy="3402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z_960[1]"/>
          <p:cNvPicPr/>
          <p:nvPr/>
        </p:nvPicPr>
        <p:blipFill>
          <a:blip r:embed="rId2"/>
          <a:stretch/>
        </p:blipFill>
        <p:spPr>
          <a:xfrm>
            <a:off x="395280" y="1916280"/>
            <a:ext cx="168912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403280" y="260280"/>
            <a:ext cx="6551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o będzie niewątpliwie zlotową nowością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ale jak się przebije ze swą niszowości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asz Dyrektor? Pomyślcie pośród głośnych pude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czy nie warto na chwilę powrócić do źródeł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Myślę, do czego by tu zaliczyć latawc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AUKA I TECHNIKA  - a jakże - na traw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albo lepiej na plaży puśćcie sobie śmiał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Chyba, żeby sztorm jakiś – oby nie porwało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11" descr="latawiec4[1]"/>
          <p:cNvPicPr/>
          <p:nvPr/>
        </p:nvPicPr>
        <p:blipFill>
          <a:blip r:embed="rId1"/>
          <a:stretch/>
        </p:blipFill>
        <p:spPr>
          <a:xfrm>
            <a:off x="324000" y="3284640"/>
            <a:ext cx="3958920" cy="320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latawiec2[1]"/>
          <p:cNvPicPr/>
          <p:nvPr/>
        </p:nvPicPr>
        <p:blipFill>
          <a:blip r:embed="rId2"/>
          <a:stretch/>
        </p:blipFill>
        <p:spPr>
          <a:xfrm>
            <a:off x="4500720" y="3573360"/>
            <a:ext cx="441324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046880" y="903600"/>
            <a:ext cx="7032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Tak szybko przelatuję czy coś nie umknęło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Ależ OBYWATELSKIE gdzieś mi tutaj wcięł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umiejętności! Toż to całkiem nie wypad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żeby ich nie kształciła zlotowa gromada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Z pewnością wymyślicie jakoweś szaleństw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obywatelskie – choćby to ...nieposłuszeństw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Na przykład Nowalijki zbytnio uciśnion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chrztem nader przemyślnym bardzo udręczon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mogą demonstracyjkę zrobić w okoli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oraz dać się za karę zamknąć do piwnic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0:47Z</dcterms:created>
  <dc:creator>admin</dc:creator>
  <dc:description/>
  <dc:language>en-US</dc:language>
  <cp:lastModifiedBy>Windows User</cp:lastModifiedBy>
  <dcterms:modified xsi:type="dcterms:W3CDTF">2008-06-04T20:16:07Z</dcterms:modified>
  <cp:revision>3</cp:revision>
  <dc:subject/>
  <dc:title>Slajd 1</dc:title>
</cp:coreProperties>
</file>