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542-FEA2-4354-9E50-3657E6587D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1DA-9CF2-4D2E-B5BA-2288BDE338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20E1-E530-4B0E-A732-93AAA6D44C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16FC-1505-4F80-A286-54DB4C4F1F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B20-368F-49EE-9C56-DA86F29CB3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670-71F0-42F0-A2FC-81588817DB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3221-E437-4A49-A20C-D46DC88677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258-EE49-44BA-9B3A-F2216FFFD2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F87D-ED8B-4C43-B892-9CEC5F3AE3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945-1A94-4EA5-8701-A5996EC8F9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861-DC7C-405A-AC0F-BC31FE78A4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E1E-2FBE-4437-977D-F4BA2CE741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13A-9FC6-4B55-96A3-8C3AFD491E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1A17-A582-48EC-9F5E-E9A48B3CAC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145-4483-4620-9A37-0A5B5910E8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AE84-7D64-4845-B7E2-C82958A2B0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72FE-509E-4A62-A585-9CB47E44E3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B95-63B7-438E-96A0-6E64ABBCB4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A947-18EB-4FFD-9739-331482D2B4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38D-1071-41DB-81DB-3EA32E0624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6517-AE8A-4518-BD54-F011BF8305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522-E0E2-4332-A434-17B3E21C09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E75-FB0E-4E9E-9542-670025E31D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ACD-3B45-4552-924E-D0B86DB64F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6268-B7B4-400F-A7F6-DF592A2DB6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A37-0B62-430A-A335-15FBD68D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687-0A33-4217-A95E-37F24D2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DB9-4E72-4116-951D-655982A6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9A5-409C-4F4F-8A69-1F7DE8B9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03F-58FE-48B6-9067-EB47667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8EA-266E-480B-82CB-7628570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F95-153F-4BED-A5DD-083F008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29C-157E-4B36-B9F3-F4C4D376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44B-D971-4BA4-A858-58D00301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EF7-A4E0-4E1E-B826-8011C142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B3B-7E87-4C87-AF46-55C6174D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B1C-EEE6-4ADA-BCB6-6B80BFE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893-CFE8-4789-A4B8-374CA779B9B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skko.edu.pl/kongres/material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LAN%20NADZORU%20_2019N.docx" TargetMode="External"/><Relationship Id="rId2" Type="http://schemas.openxmlformats.org/officeDocument/2006/relationships/hyperlink" Target="http://www.oskko.edu.pl/kongres/materialy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2019_Arkusz%20obserwacji%20lekcji.doc" TargetMode="External"/><Relationship Id="rId2" Type="http://schemas.openxmlformats.org/officeDocument/2006/relationships/hyperlink" Target="file:///obserwacja_XXX.doc" TargetMode="External"/><Relationship Id="rId3" Type="http://schemas.openxmlformats.org/officeDocument/2006/relationships/hyperlink" Target="file:///Karta%20obserwacji%20zadania%20statutowego.doc" TargetMode="External"/><Relationship Id="rId4" Type="http://schemas.openxmlformats.org/officeDocument/2006/relationships/hyperlink" Target="file:///Niepodleg&#322;a_monitorowanie.docx" TargetMode="External"/><Relationship Id="rId5" Type="http://schemas.openxmlformats.org/officeDocument/2006/relationships/hyperlink" Target="file:///Arkusz%20monitorowania%20Pedagog_2017.docx" TargetMode="External"/><Relationship Id="rId6" Type="http://schemas.openxmlformats.org/officeDocument/2006/relationships/hyperlink" Target="http://www.oskko.edu.pl/kongres/materialy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Uchwa&#322;a%20Nr%2010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Wymagania%202019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1"/>
          <p:cNvSpPr/>
          <p:nvPr/>
        </p:nvSpPr>
        <p:spPr>
          <a:xfrm>
            <a:off x="0" y="501336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XIV KONGRES ZARZĄDZANIA OŚWIAT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SKKO, Zakopane, 30.09-2.10.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oskko.edu.pl/kong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5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1"/>
          <p:cNvSpPr/>
          <p:nvPr/>
        </p:nvSpPr>
        <p:spPr>
          <a:xfrm>
            <a:off x="684360" y="1197000"/>
            <a:ext cx="81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§ 23.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 nadzoru pedagogicznego zawier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dmiot ewaluacji wewnętrznej oraz termi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przeprowa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matykę i terminy przeprowadzania kontrol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strzegania przez nauczycieli przepisów prawa dotyczących działalności dydaktycznej, wychowawczej i opiekuńczej oraz innej działalności statutowej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kres wspomagania nauczyciel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realizacji ich zadań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 obserw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kres monitorowan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13" name="Prostokąt 1"/>
          <p:cNvSpPr/>
          <p:nvPr/>
        </p:nvSpPr>
        <p:spPr>
          <a:xfrm>
            <a:off x="684360" y="2276640"/>
            <a:ext cx="78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3. 4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rzypadku dokonania zmia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lanie nadzoru, o którym mowa w ust. 1, dyrektor szkoły lub placówki niezwłocznie informuje radę pedagogiczną, a w przypadku szkoły lub placówki, w której nie tworzy się rady pedagogicznej - nauczycieli i osoby niebędące nauczycielami, które realizują zadania statutowe szkoły lub placówki, o wprowadzonych zmian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0" y="842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należy uwzględnić planując nadzór pedagogicz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1" descr=""/>
          <p:cNvPicPr/>
          <p:nvPr/>
        </p:nvPicPr>
        <p:blipFill>
          <a:blip r:embed="rId3"/>
          <a:stretch/>
        </p:blipFill>
        <p:spPr>
          <a:xfrm>
            <a:off x="414360" y="878040"/>
            <a:ext cx="8259840" cy="4833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1"/>
          <p:cNvSpPr/>
          <p:nvPr/>
        </p:nvSpPr>
        <p:spPr>
          <a:xfrm>
            <a:off x="0" y="842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należy uwzględnić planując nadzór pedagogicz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25" name="Prostokąt 1" descr=""/>
          <p:cNvPicPr/>
          <p:nvPr/>
        </p:nvPicPr>
        <p:blipFill>
          <a:blip r:embed="rId3"/>
          <a:stretch/>
        </p:blipFill>
        <p:spPr>
          <a:xfrm>
            <a:off x="414360" y="878040"/>
            <a:ext cx="825984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11"/>
          <p:cNvSpPr/>
          <p:nvPr/>
        </p:nvSpPr>
        <p:spPr>
          <a:xfrm>
            <a:off x="236520" y="33336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 nadzoru pedagogicznego 2019/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7" descr=""/>
          <p:cNvPicPr/>
          <p:nvPr/>
        </p:nvPicPr>
        <p:blipFill>
          <a:blip r:embed="rId3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11"/>
          <p:cNvSpPr/>
          <p:nvPr/>
        </p:nvSpPr>
        <p:spPr>
          <a:xfrm>
            <a:off x="236520" y="333360"/>
            <a:ext cx="843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lizowanie nadzoru pedagogicz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dyrektor mus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dyrektor moż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36" name="Dymek myśli: chmurka 1"/>
          <p:cNvSpPr/>
          <p:nvPr/>
        </p:nvSpPr>
        <p:spPr>
          <a:xfrm>
            <a:off x="4788000" y="836640"/>
            <a:ext cx="360036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ealizować zadania zapisane w rozporządze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ymek myśli: chmurka 4"/>
          <p:cNvSpPr/>
          <p:nvPr/>
        </p:nvSpPr>
        <p:spPr>
          <a:xfrm>
            <a:off x="1763640" y="2781360"/>
            <a:ext cx="3600360" cy="1511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ić zadania na dany rok tak, by to było przydatne w danej szk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ymek myśli: chmurka 5"/>
          <p:cNvSpPr/>
          <p:nvPr/>
        </p:nvSpPr>
        <p:spPr>
          <a:xfrm>
            <a:off x="3132000" y="2924280"/>
            <a:ext cx="41040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ować tak, by czuć się z tym bezpiecznie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ymek myśli: chmurka 6"/>
          <p:cNvSpPr/>
          <p:nvPr/>
        </p:nvSpPr>
        <p:spPr>
          <a:xfrm>
            <a:off x="5197320" y="2871720"/>
            <a:ext cx="3191040" cy="163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enić plan, gdy jest taka potrze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11"/>
          <p:cNvSpPr/>
          <p:nvPr/>
        </p:nvSpPr>
        <p:spPr>
          <a:xfrm>
            <a:off x="539640" y="84240"/>
            <a:ext cx="8136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kumentowanie nadzoru pedagogicz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kusz obserwacji le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kusz obserwacji wypełni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rta obserwacji zadania statut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kusz monitorowania_Niepodleg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rkusz monitorowania_Pedag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"/>
          <p:cNvPicPr/>
          <p:nvPr/>
        </p:nvPicPr>
        <p:blipFill>
          <a:blip r:embed="rId7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ole tekstowe 11"/>
          <p:cNvSpPr/>
          <p:nvPr/>
        </p:nvSpPr>
        <p:spPr>
          <a:xfrm>
            <a:off x="0" y="842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ki z nadzoru i co dale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971640" y="148428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orządzenie w sprawie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24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rektor szkoły lub placówki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terminie do dnia 31 sierpnia, przedstawia na zebraniu rady pedagogicz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a w przypadku szkoły lub placówki, w której nie tworzy się rady pedagogicznej - na zebraniu z udziałem nauczycieli i osób niebędących nauczycielami, które realizują zadania statutowe szkoły lub placówki, wyniki i wnioski ze sprawowanego nadzoru pedagogicz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PO Art. 6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. Dyrektor szkoły lub placówki przedstawia radzie pedagogicznej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rzadziej niż dwa razy w roku szkolnym, ogólne wniosk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nikające ze sprawowanego nadzoru pedagogicznego oraz informacje o działalności szkoł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ole tekstowe 11"/>
          <p:cNvSpPr/>
          <p:nvPr/>
        </p:nvSpPr>
        <p:spPr>
          <a:xfrm>
            <a:off x="0" y="842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ki z nadzoru i co dale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1"/>
          <p:cNvSpPr/>
          <p:nvPr/>
        </p:nvSpPr>
        <p:spPr>
          <a:xfrm>
            <a:off x="971640" y="2205000"/>
            <a:ext cx="73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PO Art. 70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Do kompetencji stanowiących rady pedagogicznej należ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 ustalanie sposobu wykorzystania wyników nadzoru pedagogicznego, w tym sprawowanego nad szkołą lub placówką przez organ sprawujący nadzór pedagogiczny, w celu doskonalenia pracy szkoły 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hwała – przykł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wykorzystania wyników nadzoru - przykł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11"/>
          <p:cNvSpPr/>
          <p:nvPr/>
        </p:nvSpPr>
        <p:spPr>
          <a:xfrm>
            <a:off x="539640" y="84240"/>
            <a:ext cx="806472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dokumentacja z nadzoru (arkusze obserwacji, arkusze kontroli itp.) ma znaczenie przy ustalaniu oceny pra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sporządzacie notatki służbo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amochwałki, karty samooceny…potrzeb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kumentacja nadzoru pedagogicznego a zastrzeżenia do projektu oceny lub odwołanie od ocen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62" name="Dymek mowy: prostokąt z zaokrąglonymi rogami 1"/>
          <p:cNvSpPr/>
          <p:nvPr/>
        </p:nvSpPr>
        <p:spPr>
          <a:xfrm>
            <a:off x="2700360" y="2637000"/>
            <a:ext cx="5759280" cy="122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wołanie od oceny pracy nauczyciela …Dyrektor szkoły dołącz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semne odniesienie się do zarzutów podniesionych w odwołani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11"/>
          <p:cNvSpPr/>
          <p:nvPr/>
        </p:nvSpPr>
        <p:spPr>
          <a:xfrm>
            <a:off x="3240" y="2846520"/>
            <a:ext cx="896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ADZÓR PEDAGOGICZNY W PRAKTYCE DYREKTORA PUBLICZNEJ SZKOŁY PODSTAW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abela Leśniew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oskko.edu.pl/kong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az 2" descr="Obraz zawierający góra, budynek, zewnętrzne, jednostka pływająca&#10;&#10;Opis wygenerowany automatycznie"/>
          <p:cNvPicPr/>
          <p:nvPr/>
        </p:nvPicPr>
        <p:blipFill>
          <a:blip r:embed="rId1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11"/>
          <p:cNvSpPr/>
          <p:nvPr/>
        </p:nvSpPr>
        <p:spPr>
          <a:xfrm>
            <a:off x="539640" y="84240"/>
            <a:ext cx="8064720" cy="68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Rozporządzenie w sprawie trybu dokonywania oceny pracy nauczyciel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§ 4. 2. Karta oceny pracy zawi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) imię (imiona) i nazwisko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) datę i miejsce urodze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) miejsce zatrudnienia i zajmowane stanowisk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) staż pracy pedagogiczn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) stopień awansu zawod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) wykształcen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) datę dokonania ostatniej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8) stwierdzenie uogólniające, o którym mowa w art. 6a ust. 4 Karty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9) uzasadnienie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0) datę dokonania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1) podpis osoby dokonującej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2) pouczenie o terminie i trybie wniesienia odwołania od oceny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11"/>
          <p:cNvSpPr/>
          <p:nvPr/>
        </p:nvSpPr>
        <p:spPr>
          <a:xfrm>
            <a:off x="539640" y="84240"/>
            <a:ext cx="8064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rta oceny - przykł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11"/>
          <p:cNvSpPr/>
          <p:nvPr/>
        </p:nvSpPr>
        <p:spPr>
          <a:xfrm>
            <a:off x="684360" y="19303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ytania, refleksj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1"/>
          <p:cNvSpPr/>
          <p:nvPr/>
        </p:nvSpPr>
        <p:spPr>
          <a:xfrm>
            <a:off x="90360" y="2492280"/>
            <a:ext cx="8963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zabela Leśniew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zabela.lesniewska@oskko.edu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ład wygłoszony podczas XIII Kongresu Zarządzania Oświatą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teriały, w wersji do pobrania, znajdą się na stronie Kongresu: www.oskko.edu.pl/kongres/ - w zakładce „Materiał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OSKKO wyraża zgodę na wykorzystywanie tej prezentacji do celów edukacyjnych, lecz pod warunkiem nieingerowania w tekst oraz pozostawienia nazwy kongresu, organizatora i autora materiał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2" descr="Obraz zawierający góra, budynek, zewnętrzne, jednostka pływająca&#10;&#10;Opis wygenerowany automatycznie"/>
          <p:cNvPicPr/>
          <p:nvPr/>
        </p:nvPicPr>
        <p:blipFill>
          <a:blip r:embed="rId1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03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11"/>
          <p:cNvSpPr/>
          <p:nvPr/>
        </p:nvSpPr>
        <p:spPr>
          <a:xfrm>
            <a:off x="0" y="842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stawy pra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Prostokąt 1"/>
          <p:cNvSpPr/>
          <p:nvPr/>
        </p:nvSpPr>
        <p:spPr>
          <a:xfrm>
            <a:off x="468360" y="105264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WA z dnia 14 grudnia 2016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awo oświatow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9 r. poz. 1148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WA z dnia 26 stycznia 1982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arta Nauczyciel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8 r. poz. 967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25 sierpnia 2017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nadzoru pedagogiczneg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7 r. poz. 1658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11 sierpnia 2017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wymagań wobec szkół i placówek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7 r. poz. 1611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19 sierpnia 2019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szczegółowych kryteriów i trybu dokonywania oceny pracy nauczyciel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zakresu informacji zawartych w karcie oceny pracy, składu i sposobu powoływania zespołu oceniającego oraz trybu postępowania odwoławczego (Dz. U. poz. 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11"/>
          <p:cNvSpPr/>
          <p:nvPr/>
        </p:nvSpPr>
        <p:spPr>
          <a:xfrm>
            <a:off x="0" y="842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gad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1"/>
          <p:cNvSpPr/>
          <p:nvPr/>
        </p:nvSpPr>
        <p:spPr>
          <a:xfrm>
            <a:off x="900000" y="1859040"/>
            <a:ext cx="78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owiązujące formy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dania dyrek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 nadzoru pedagogicznego a kierunki polityki oświatowej państwa i wyniki i wnioski z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a pedagogiczna a nadzór pedagogiczny w sz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ktyka nadzoru – przykłady karty obserwacji lekcji, arkusza monitoringu, wyników i wniosków z nad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owanie nadzoru a ocena pracy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"/>
          <p:cNvSpPr/>
          <p:nvPr/>
        </p:nvSpPr>
        <p:spPr>
          <a:xfrm>
            <a:off x="755640" y="185904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1. Dyrektor szkoły lub placówki we współpracy z innymi nauczycielami zajmującymi stanowiska kierownicze, w ramach sprawowanego nadzoru pedagogiczn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prowadza ewaluację wewnętrz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wykorzystuje jej wyniki do doskonalenia jakości pracy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roluje przestrzeganie przez nauczycieli przepisów pra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tyczących działalności dydaktycznej, wychowawczej i opiekuńczej oraz innej działalności statutowej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80" name="Prostokąt 1"/>
          <p:cNvSpPr/>
          <p:nvPr/>
        </p:nvSpPr>
        <p:spPr>
          <a:xfrm>
            <a:off x="755640" y="18590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1. Dyrektor szkoły lub placówki we współpracy z innymi nauczycielami zajmującymi stanowiska kierownicze, w ramach sprawowanego nadzoru pedagogiczn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pomaga nauczycieli w realizacji ich zadań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szczególności prz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diagnozę pracy szkoł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placówk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planowanie działań rozwojow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tym motywowanie nauczycieli do doskonalenia zawodow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prowadzenie działań rozwojow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tym organizowanie szkoleń i nar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onitoruje pracę szkoł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86" name="Prostokąt 1"/>
          <p:cNvSpPr/>
          <p:nvPr/>
        </p:nvSpPr>
        <p:spPr>
          <a:xfrm>
            <a:off x="755640" y="18590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2. Ewaluację wewnętrzną przeprowadza się w odniesieniu d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gadnień uznanych w szkole lub placówce za istot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jej działal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. W celu realizacji zadań, o których mowa w ust. 1, dyrektor szkoły lub placówki we współpracy z nauczycielami, o których mowa w ust. 1,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analizuje dokumentację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biegu naucz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obserwuje prowadzone przez nauczycieli zajęc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daktyczne, wychowawcze i opiekuńcze oraz inne zajęcia i czynności wynikające z działalności statutowej szkoły 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ymek mowy: prostokąt z zaokrąglonymi rogami 3"/>
          <p:cNvSpPr/>
          <p:nvPr/>
        </p:nvSpPr>
        <p:spPr>
          <a:xfrm>
            <a:off x="1619280" y="260280"/>
            <a:ext cx="6985080" cy="194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gadnien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stot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czyli jak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le coś „szwankuje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le coś świetnie działa i może warto receptę na to skopiować do innych przedsięwzięć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ymagania państw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1"/>
          <p:cNvSpPr/>
          <p:nvPr/>
        </p:nvSpPr>
        <p:spPr>
          <a:xfrm>
            <a:off x="755640" y="18590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23. 1. Dyrektor szkoły lub placówki opracowuje na każdy rok szkolny plan nadzoru pedagogicznego, który przedstawia na zebraniu rady pedagogicz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a w przypadku szkoły lub placówki, w której nie tworzy się rady pedagogicznej - na zebraniu z udziałem nauczycieli i osób niebędących nauczycielami, które realizują zadania statutowe szkoły lub placówki, w terminie do dnia 15 września roku szkolnego, którego dotyczy p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ymek myśli: chmurka 4"/>
          <p:cNvSpPr/>
          <p:nvPr/>
        </p:nvSpPr>
        <p:spPr>
          <a:xfrm>
            <a:off x="3419640" y="404640"/>
            <a:ext cx="482436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a pedagogicz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opiniuje/nie zatwierdz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u nadzoru pedagogiczne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5364000" y="5732640"/>
            <a:ext cx="360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stawa prawna do planu nadzoru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01" name="Prostokąt 1" descr=""/>
          <p:cNvPicPr/>
          <p:nvPr/>
        </p:nvPicPr>
        <p:blipFill>
          <a:blip r:embed="rId3"/>
          <a:stretch/>
        </p:blipFill>
        <p:spPr>
          <a:xfrm>
            <a:off x="701640" y="1859040"/>
            <a:ext cx="8174160" cy="2384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8:40Z</dcterms:created>
  <dc:creator>Marek</dc:creator>
  <dc:description/>
  <dc:language>en-US</dc:language>
  <cp:lastModifiedBy>Iza Leśniewska</cp:lastModifiedBy>
  <dcterms:modified xsi:type="dcterms:W3CDTF">2019-09-30T08:58:15Z</dcterms:modified>
  <cp:revision>171</cp:revision>
  <dc:subject/>
  <dc:title>Slajd 1</dc:title>
</cp:coreProperties>
</file>