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FB9C-6CEE-4684-80EE-2F0B0E35AC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08AD-6111-4396-8AD3-FD331F0F7E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7864-7040-424B-AF1E-4C74D9FC97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3188-A682-4A91-83ED-A0BCC8471D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C339-AC4C-4B77-8E09-B48F2EFC4D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37F-BEEF-4231-8864-CDC96CD3B7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68D-0C2A-44E8-962C-9201FB7C66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7AA4-38AF-4446-A801-69F755C6D4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FCBD-EE96-412B-B759-7E48676504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170D-74A3-4083-B665-386671DDB0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6C5F-9B83-4564-A083-15CB0FB0E9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D139-7F0A-4DB3-A578-37D5123D12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11FA-7D8F-49E3-8A81-BCE64ED7F8D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F72-E303-4F76-8ED5-1B2361B6FB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0290-88AD-44E7-ABD5-DFE87CBBCD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51BD-27BB-458C-98F3-71A5A8A2D5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84BD-8814-4F6B-9106-D079CDA942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8826-6A3A-4138-8458-9ACF42FDCC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2102-D3D9-489C-BA2D-72BE3E2941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1002-BC4F-45A1-97C4-BCC2F97210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7582-CB5C-4C21-90E7-AABACBD5D0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4AC4-4C52-4C7B-BC8F-423FD9BD95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B108-1544-4149-9AFF-9825C2DE42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F9FD-0C3D-4B14-B150-786C909146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EB13-2811-4B5E-ABE4-9AA46583F4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9052-32FE-4CF1-A8B7-0AB15683CE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C0D4-2028-4BE7-99B2-6EA2CAAD16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2727-60AC-4AFE-B1A2-1DFCD3177C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104-62A7-48A7-A52D-3A2687A0B5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5160-116F-467C-9833-A93FE41370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1969-1756-460C-B952-1CBCECC709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FD76-4231-4952-BA90-4F43E2FCAE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F27C-D56D-42C7-AEF6-34C1C520C8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0BC8-8277-4211-B935-69FE1D1077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867D-D8DF-498A-A30C-F3B365C6BE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82CC-99ED-4CE2-AE58-42722E2AE7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D795-2D0C-4387-95B8-C3B224A3F8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9511-CA91-489F-81C8-C875AF8D09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3F26-BD6E-4240-90BF-974DC86BAB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A8A3-CDEB-4F5B-8D03-7AF0B76810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942E-D085-4DFA-85BC-BB7AFDBF96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9D47-70E1-455D-B30D-A743F5D8E4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F0EA-326C-4943-A423-301C982A87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9750-9C42-48FD-85CA-A34E30E978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6AB8-0956-42D1-B677-92FA6A5C709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081D-A056-4153-AA3A-07B8E35B51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9FFA-0249-4C35-A9A9-CB4AAF9951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EDBC-757B-4726-BC26-7D3B3DB62F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2648-C5AA-4D15-8693-60DB137010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3948-7FFE-4496-A979-F7C18D5E6CC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C67-C3EC-4CFD-B941-53EAFBCB24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B753-BD0E-485F-9A5F-609FDC6E6F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6E33-2B9B-41B9-87E2-2678A1AE54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68B-A035-4CB0-800A-8243EAC133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008F-33F9-437A-AD30-A8A156B7E8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71F0-7D43-47A3-93C4-6D464D88FF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A57-01F3-4207-83FE-23149E74A7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DF91-6746-4CF9-821F-0C1DB7E00F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65D1-A949-4C6F-9B7E-F4933B484E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FD56-FF6A-4373-9947-5F0C496D4E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4BF4-EB10-42D3-A745-C905713E14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A5CD-E106-4DDD-ABE8-B5D7ACDCAD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D69C-1FFE-4B94-B525-9DE9A74FA1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3422-BD84-453F-AEBE-E85F1CBA5AB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8E7-D367-4550-9BDF-BDFC63D8B0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05D7-B15F-4D56-BCF7-D8196AE6C9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F099-A148-4F5A-91B4-940211EECE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32CB-1053-4B55-9A7E-43C14346AA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F234-002E-49C4-910E-8766AF7853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1959-4446-4F19-8AE4-D7893E690D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4029-01A0-4DE3-9A56-265FA5692D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D9E8-5A23-4B00-9C25-6EACFACBEC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5BFB-C433-40EF-A4B7-272460C39B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8DD1-90CE-4D58-BE5E-D30FC71A2E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ABCD-841D-49AB-A7D3-30352E5D01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5E77-CEC5-4803-ABF3-48864EFC2C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9D85-9A5B-474B-8369-6CB2CDDC7D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69F6-F0B0-45FF-8BA7-2F0A581F5A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A0E3-3884-4D3B-B3E7-74F3921DB4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92FB-55EA-4060-BD98-54ACE705FB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2B21-E326-46F9-B28D-4DE05F2F36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429C-BC07-4115-B0AA-375C1C3F2A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162-8746-4DE3-8703-59A78B37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885-DB42-49CB-8565-8AE3FB68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966-E22A-4463-9E5E-25A8649D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F89-57B6-4ABF-9BDD-258CACE5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72D-754B-42B9-ABC0-A63ED94D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A6D-2BDC-4B9D-AEF8-8D5C3E7D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E7E-7D72-426C-9E3E-9FF306CA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45A-983E-4699-901E-E1EFE08A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E7F-5D60-4CDD-A422-FBFCBD90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587-F6CB-46E5-96D3-DE90F553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261-87EE-4B8E-87EA-1B49A06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073-6E96-4F96-A86D-FCC9C0DB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F3E7-B514-4091-B452-91AFEC34C80B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kko.edu.pl/szkoleni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skko.edu.pl/szkoleni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skko.edu.pl/szkoleni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kolory%20&#322;awek.doc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skko.edu.pl/szkolenia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skko.edu.pl/szkoleni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Rejestr%20wyj&#347;&#263;%20grupowych%20uczni&#243;w.docx" TargetMode="External"/><Relationship Id="rId3" Type="http://schemas.openxmlformats.org/officeDocument/2006/relationships/hyperlink" Target="http://www.oskko.edu.pl/szkolenia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protokol_kontroli_warunkow_bhp_w_szkoledocx.docx" TargetMode="External"/><Relationship Id="rId3" Type="http://schemas.openxmlformats.org/officeDocument/2006/relationships/hyperlink" Target="http://www.oskko.edu.pl/szkolenia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skko.edu.pl/szkoleni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skko.edu.pl/szkoleni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skko.edu.pl/szkoleni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11"/>
          <p:cNvSpPr/>
          <p:nvPr/>
        </p:nvSpPr>
        <p:spPr>
          <a:xfrm>
            <a:off x="395280" y="2276640"/>
            <a:ext cx="842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ezpieczeństwo w szkole - zadania i odpowiedzialność dyrektora. Nadzór dyrektora nad bezpieczeństwem w szkole, monitorowanie, dokumentowa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Izabela Leśniews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://www.oskko.edu.pl/szkolenia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az 2" descr="Obraz zawierający znak&#13;&#10;&#13;&#10;Opis wygenerowany przy wysokim poziomie pewności"/>
          <p:cNvPicPr/>
          <p:nvPr/>
        </p:nvPicPr>
        <p:blipFill>
          <a:blip r:embed="rId2"/>
          <a:stretch/>
        </p:blipFill>
        <p:spPr>
          <a:xfrm>
            <a:off x="15840" y="0"/>
            <a:ext cx="9144000" cy="1486080"/>
          </a:xfrm>
          <a:prstGeom prst="rect">
            <a:avLst/>
          </a:prstGeom>
          <a:ln w="0">
            <a:noFill/>
          </a:ln>
        </p:spPr>
      </p:pic>
      <p:sp>
        <p:nvSpPr>
          <p:cNvPr id="52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3287-0419-4BF6-8B17-0CA721506711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000" y="2249280"/>
            <a:ext cx="804708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6. 3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konieczności przeprowadzenia prac remontowych, naprawczych lub instalacyjnych w czasie funkcjonowania szkoły lub placówki prace te organizuje się w sposób nienarażający osób pozostających pod opieką szkoły lub placówki na niebezpieczeństwo i uciążliwości wynikające z prowadzonych prac oraz z zastosowaniem szczególnych środków ostrożnoś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4. Miejsca prowadzenia prac, o których mowa w ust. 1 i 3, należy zabezpieczyć przed dostępem osób nieuprawnionych, w szczególności uczni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</a:t>
            </a:r>
            <a:r>
              <a:rPr b="0" lang="pl-PL" sz="1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oskko.edu.pl/szkolenia/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Wybuch  2 3"/>
          <p:cNvSpPr/>
          <p:nvPr/>
        </p:nvSpPr>
        <p:spPr>
          <a:xfrm>
            <a:off x="6505560" y="5100480"/>
            <a:ext cx="2808360" cy="1573200"/>
          </a:xfrm>
          <a:prstGeom prst="irregularSeal2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1"/>
          <p:cNvSpPr/>
          <p:nvPr/>
        </p:nvSpPr>
        <p:spPr>
          <a:xfrm>
            <a:off x="7020000" y="5734080"/>
            <a:ext cx="20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9 listopada 2018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wal 10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39D8-B8EE-4E7C-B220-0FBAFF4FC836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000" y="1711440"/>
            <a:ext cx="8278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7. 1. Teren szkoły i placówki ogradza si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Na terenie szkoły i placówki zapewnia się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właściwe oświetleni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równą nawierzchnię dróg, przejść i boisk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) instalację do odprowadzania ścieków i wody deszczow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Otwory kanalizacyjne, studzienki i inne zagłębienia na terenie szkoły lub placówki zakrywa się odpowiednimi pokrywami lub trwale zabezpiecza w inny sposó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4. Szlaki komunikacyjne wychodzące poza teren szkoły i placówki zabezpiecza się w sposób uniemożliwiający bezpośrednie wyjście na jezdnię. W miarę możliwości szlaki komunikacyjne kieruje się na ulicę o najmniejszym natężeniu ruch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5. Przejścia na terenie szkoły lub placówki oczyszcza się ze śniegu i lodu oraz zabezpiecza przed poślizgi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</a:t>
            </a:r>
            <a:r>
              <a:rPr b="0" lang="pl-PL" sz="1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oskko.edu.pl/szkolenia/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0098-B8C4-4A95-A994-6C8532777274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9. 1. W pomieszczeniach szkoły i placówki zapewnia się właściwe oświetlenie, wentylację i ogrzewan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Sprzęty, z których korzystają osoby pozostające pod opieką szkoły lub placówki, dostosowuje się do </a:t>
            </a:r>
            <a:r>
              <a:rPr b="0" lang="pl-PL" sz="2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ymagań ergonomi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zkoły i placówki nabywają wyposażenie posiadające odpowiednie atesty lub certyfika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testy i certyfika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5BFD-54A2-4177-BD94-D8B48C4F6AA4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0. 1. Kuchnie i jadalnie utrzymuje się w czystości, a ich wyposażenie we właściwym stanie technicznym zapewniającym bezpieczne używan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Gorące posiłki są spożywane wyłącznie w jadalniach lub innych pomieszczeniach wydzielonych w tym ce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Jadalnie lub inne pomieszczenia, o których mowa w ust. 2, umożliwiają bezpieczne i higieniczne spożycie posił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Wybuch  2 3"/>
          <p:cNvSpPr/>
          <p:nvPr/>
        </p:nvSpPr>
        <p:spPr>
          <a:xfrm>
            <a:off x="5867280" y="4815000"/>
            <a:ext cx="2808360" cy="1573200"/>
          </a:xfrm>
          <a:prstGeom prst="irregularSeal2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Obraz 9" descr=""/>
          <p:cNvPicPr/>
          <p:nvPr/>
        </p:nvPicPr>
        <p:blipFill>
          <a:blip r:embed="rId2"/>
          <a:stretch/>
        </p:blipFill>
        <p:spPr>
          <a:xfrm>
            <a:off x="6372360" y="5445000"/>
            <a:ext cx="1584360" cy="432000"/>
          </a:xfrm>
          <a:prstGeom prst="rect">
            <a:avLst/>
          </a:prstGeom>
          <a:ln w="0">
            <a:noFill/>
          </a:ln>
        </p:spPr>
      </p:pic>
      <p:sp>
        <p:nvSpPr>
          <p:cNvPr id="150" name="Owal 9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8A8-E9E6-417A-9A67-3034BE75F99E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1. W razie braku sieci wodociągowej, w szkole i placówce zapewnia się inne źródło wody spełniającej wymagania dla wody zdatnej do pi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2. </a:t>
            </a: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Pomieszczenia, w których odbywają się zajęcia, wietrzy się w czasie każdej przer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 w razie potrzeby także w czasie zaję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70c0"/>
                </a:solidFill>
                <a:latin typeface="Calibri"/>
              </a:rPr>
              <a:t>Może warto w arkuszu obserwacji mieć rubrykę na uwagi dotyczące b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BA1D-63C2-4620-B631-7A336693C578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690560"/>
            <a:ext cx="80470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§ 13. Niedopuszczalne jest prowadzenie jakichkolwiek zajęć bez nadzoru upoważnionej do tego osob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§ 14. 1.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</a:rPr>
              <a:t>Przerwy w zajęciach uczniowie spędzają pod nadzorem nauczyciela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2. Jeżeli pozwalają na to warunki atmosferyczne, umożliwia się uczniom przebywanie w czasie przerw w zajęciach na świeżym powietrzu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3. Dyrektor, po zasięgnięciu opinii rady rodziców i samorządu uczniowskiego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1) ustala długość przerw międzylekcyjnych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2) organizuje przerwy w sposób umożliwiający uczniom spożycie posiłków na terenie szkoły lub placówki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Regulamin dyżurów nauczyciel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0070c0"/>
                </a:solidFill>
                <a:latin typeface="Calibri"/>
              </a:rPr>
              <a:t>W jaki sposób realizujemy ustęp 3 – zarządzenie, decyzja…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Obraz 8" descr=""/>
          <p:cNvPicPr/>
          <p:nvPr/>
        </p:nvPicPr>
        <p:blipFill>
          <a:blip r:embed="rId2"/>
          <a:stretch/>
        </p:blipFill>
        <p:spPr>
          <a:xfrm>
            <a:off x="6521400" y="5078520"/>
            <a:ext cx="2762280" cy="1603440"/>
          </a:xfrm>
          <a:prstGeom prst="rect">
            <a:avLst/>
          </a:prstGeom>
          <a:ln w="0">
            <a:noFill/>
          </a:ln>
        </p:spPr>
      </p:pic>
      <p:sp>
        <p:nvSpPr>
          <p:cNvPr id="167" name="Prostokąt 1"/>
          <p:cNvSpPr/>
          <p:nvPr/>
        </p:nvSpPr>
        <p:spPr>
          <a:xfrm>
            <a:off x="6948360" y="5805360"/>
            <a:ext cx="23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 marca 2019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wal 9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83FA-5521-4ED1-A0C1-D53D8BF64481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2276640"/>
            <a:ext cx="804708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7. 1. W pomieszczeniach, w których odbywają się zajęcia, zapewnia się temperaturę co najmniej 18°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Jeżeli nie jest możliwe zapewnienie temperatury, o której mowa w ust. 1, dyrektor zawiesza zajęcia na czas oznaczony, powiadamiając o tym organ prowadzą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583-7036-447C-937C-D3840A4B4997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000" y="1690560"/>
            <a:ext cx="80470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§ 18. 1. Organ prowadzący szkołę lub placówkę może zawiesić zajęcia na czas oznaczony, w przypadku gdy na danym terenie może wystąpić zagrożenie bezpieczeństwa uczniów związane z utrudnieniem w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1) dotarciu ucznia do szkoły lub placówki lub powrotem ze szkoły lub placówki lu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2) organizacji zajęć w szkole lub placów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- w związku z organizacją i przebiegiem imprez ogólnopolskich lub międzynarodowych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C2AE-B043-4F39-B581-7951BE29C2C1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8000" y="2349360"/>
            <a:ext cx="804708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§ 18. 2. </a:t>
            </a:r>
            <a:r>
              <a:rPr b="1" lang="pl-PL" sz="1900" spc="-1" strike="noStrike">
                <a:solidFill>
                  <a:srgbClr val="ff0000"/>
                </a:solidFill>
                <a:latin typeface="Calibri"/>
              </a:rPr>
              <a:t>Dyrektor, za zgodą organu prowadzącego, może zawiesić zajęcia na czas oznaczony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, jeżeli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1) temperatura zewnętrzna mierzona o godzinie 21.00 w dwóch kolejnych dniach poprzedzających zawieszenie zajęć wynosi -15°C lub jest niższa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2) wystąpiły na danym terenie zdarzenia, które mogą zagrozić zdrowiu uczniów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3. O zawieszeniu zajęć, o którym mowa w ust. 1 i 2, odpowiednio organ prowadzący lub dyrektor zawiadamiają organ sprawujący nadzór pedagogiczn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0070c0"/>
                </a:solidFill>
                <a:latin typeface="Calibri"/>
              </a:rPr>
              <a:t>Czy zajęcia zawieszone trzeba odpracować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CEE3-DA9A-4E26-8C67-6A94DBEFD2DB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000" y="2204640"/>
            <a:ext cx="80470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9. 1. Jeżeli pomieszczenie lub inne miejsce, w którym mają być prowadzone zajęcia, lub stan znajdującego się w nim wyposażenia stwarza zagrożenia dla bezpieczeństwa, niedopuszczalne jest rozpoczęcie zaję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Jeżeli stan zagrożenia powstanie lub ujawni się w czasie zajęć - niezwłocznie się je przerywa i wyprowadza się z zagrożonych miejsc osoby powierzone opiece szkoły lub placów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0C4F-26FE-4EEB-A7EC-4E9526EAEC2B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le tekstowe 11"/>
          <p:cNvSpPr/>
          <p:nvPr/>
        </p:nvSpPr>
        <p:spPr>
          <a:xfrm>
            <a:off x="324000" y="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XIV Kongres Zarządzania Oświatą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OSKKO Gdańsk, 9-11 października 2019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pisy od 1 czerw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tak było w ub. ro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www.oskko.edu.pl/kongr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C163-FEB3-4948-B6E6-601BD4ABB533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az 3" descr=""/>
          <p:cNvPicPr/>
          <p:nvPr/>
        </p:nvPicPr>
        <p:blipFill>
          <a:blip r:embed="rId2"/>
          <a:stretch/>
        </p:blipFill>
        <p:spPr>
          <a:xfrm>
            <a:off x="-4680" y="3068640"/>
            <a:ext cx="9144000" cy="3341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000" y="2491920"/>
            <a:ext cx="80470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0. Pomieszczenia szkoły i placówki, w szczególności pokój nauczycielski, laboratoria, pracownie, </a:t>
            </a:r>
            <a:r>
              <a:rPr b="0" lang="pl-PL" sz="2000" spc="-1" strike="noStrike">
                <a:solidFill>
                  <a:srgbClr val="ff0000"/>
                </a:solidFill>
                <a:latin typeface="Calibri"/>
              </a:rPr>
              <a:t>świetlicę,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warsztaty szkolne, pokój nauczycieli wychowania fizycznego, kierownika internatu (bursy) oraz kuchnię, wyposaża się w apteczki zaopatrzone w środki niezbędne do udzielania pierwszej pomocy i instrukcję o zasadach udzielania tej pomo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Obraz 8" descr=""/>
          <p:cNvPicPr/>
          <p:nvPr/>
        </p:nvPicPr>
        <p:blipFill>
          <a:blip r:embed="rId2"/>
          <a:stretch/>
        </p:blipFill>
        <p:spPr>
          <a:xfrm>
            <a:off x="6659640" y="3914640"/>
            <a:ext cx="2555640" cy="1522440"/>
          </a:xfrm>
          <a:prstGeom prst="rect">
            <a:avLst/>
          </a:prstGeom>
          <a:ln w="0">
            <a:noFill/>
          </a:ln>
        </p:spPr>
      </p:pic>
      <p:sp>
        <p:nvSpPr>
          <p:cNvPr id="209" name="Owal 9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ole tekstowe 1"/>
          <p:cNvSpPr/>
          <p:nvPr/>
        </p:nvSpPr>
        <p:spPr>
          <a:xfrm>
            <a:off x="7236000" y="4581360"/>
            <a:ext cx="136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29 listopada 2018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7999-E2F7-4AA9-85F9-E66EBAD9D5B2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000" y="2060640"/>
            <a:ext cx="80470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Calibri"/>
              </a:rPr>
              <a:t>§ 21. Pracownicy szkoły lub placówki podlegają przeszkoleniu w zakresie udzielania pierwszej  pomo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2. Udział uczniów w pracach na rzecz szkoły i środowiska może mieć miejsce po zaopatrzeniu ich w odpowiednie do wykonywanych prac urządzenia, sprzęt i środki ochrony indywidualnej oraz po zapewnieniu właściwego nadzoru i bezpiecznych warunków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70c0"/>
                </a:solidFill>
                <a:latin typeface="Calibri"/>
              </a:rPr>
              <a:t>Jak często szkolenie z zakresu udzielania pierwszej pomoc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Obraz 8" descr=""/>
          <p:cNvPicPr/>
          <p:nvPr/>
        </p:nvPicPr>
        <p:blipFill>
          <a:blip r:embed="rId2"/>
          <a:stretch/>
        </p:blipFill>
        <p:spPr>
          <a:xfrm>
            <a:off x="6678720" y="5245200"/>
            <a:ext cx="2555640" cy="1522440"/>
          </a:xfrm>
          <a:prstGeom prst="rect">
            <a:avLst/>
          </a:prstGeom>
          <a:ln w="0">
            <a:noFill/>
          </a:ln>
        </p:spPr>
      </p:pic>
      <p:pic>
        <p:nvPicPr>
          <p:cNvPr id="219" name="Obraz 1" descr=""/>
          <p:cNvPicPr/>
          <p:nvPr/>
        </p:nvPicPr>
        <p:blipFill>
          <a:blip r:embed="rId3"/>
          <a:stretch/>
        </p:blipFill>
        <p:spPr>
          <a:xfrm>
            <a:off x="7284960" y="5810400"/>
            <a:ext cx="1120680" cy="322200"/>
          </a:xfrm>
          <a:prstGeom prst="rect">
            <a:avLst/>
          </a:prstGeom>
          <a:ln w="0">
            <a:noFill/>
          </a:ln>
        </p:spPr>
      </p:pic>
      <p:sp>
        <p:nvSpPr>
          <p:cNvPr id="220" name="Owal 9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1347-4E63-46FF-A80F-4B023CCCFD17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000" y="2276640"/>
            <a:ext cx="827892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4. 1. Stanowiska pracy dostosowuje się do warunków antropometrycznych uczni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Jeżeli ze stanowisk pracy korzystają osoby niepełnosprawne, dostosowuje się je do potrzeb wynikających z ich niepełnosprawnoś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5. Przy maszynach i innych urządzeniach technicznych lub w ich pobliżu </a:t>
            </a: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wywiesza się w widocznym miejscu instrukcję bezpiecznej obsług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A1EB-BADB-4D65-AC6C-19361A22EF01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6. W warsztacie, laboratorium i pracown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wiesza się w widocznym i łatwo dostępnym miejscu regulamin określający zasady bezpieczeństwa i higieny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7. 1. Przed dopuszczeniem do zajęć przy maszynach i innych urządzeniach technicznych w warsztatach, laboratoriach i pracowniach, uczniów zaznajamia się z zasadami i metodami pracy zapewniającymi bezpieczeństwo i higienę pracy przy wykonywaniu czynności na stanowisku roboczy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Rozpoczęcie zajęć, o których mowa w ust. 1, może nastąpić po sprawdzeniu i upewnieniu się przez prowadzącego zajęcia, że stan maszyn i innych urządzeń technicznych, instalacji elektrycznej i narzędzi pracy, a także inne warunki środowiska pracy nie stwarzają zagrożeń dla bezpieczeństwa uczni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226C-2B93-4CC8-B8F9-1E84F819132B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000" y="2565360"/>
            <a:ext cx="80470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8. Uczniów pracujących w warsztatach, laboratoriach i pracowniach szkolnych w celu zabezpieczenia przed działaniem niebezpiecznych lub szkodliwych dla zdrowia czynników, a także ze względu na wymagania sanitarnohigieniczne, zaopatruje się w niezbędne środki ochrony indywidualnej oraz odzież i obuwie robocz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782-0165-4512-BED7-3EE54C063C86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916280"/>
            <a:ext cx="80470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9. 1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ubstancje chemiczne i ich mieszaniny należy przechowywać w odpowiednich pojemnikach zabezpieczających przed ich szkodliwym działanie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opatrzonych etykietami zawierającymi nazwę substancji chemicznej lub mieszaniny tych substancji oraz informującymi o ich niebezpiecznym lub szkodliwym dla zdrowia działani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Substancje chemiczne niebezpieczne i mieszaniny niebezpieczne - w rozumieniu przepisów o substancjach chemicznych i ich mieszaninach -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leży przechowywać w zamkniętych pomieszczeniach specjalnie przystosowanych do tego cel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D809-E3C4-408D-B6B0-F6BF8509CBB3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000" y="1916280"/>
            <a:ext cx="80470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§ 29. 3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yrektor zapewnia udostępnienie kart charakterystyk substancji chemicznych niebezpiecznych i mieszanin niebezpieczn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zgromadzonych w szkole lub placówce, osobom prowadzącym zajęcia z użyciem tych substancji i mieszan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Prowadzący zajęcia zapoznaje uczniów z kartami charakterystyk substancji chemicznych niebezpiecznych i mieszanin niebezpiecznych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korzystywanych podczas zajęć oraz umieszcza te karty w łatwo dostępnym miejsc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70c0"/>
                </a:solidFill>
                <a:latin typeface="Calibri"/>
              </a:rPr>
              <a:t>Może warto to odnotować w karcie obserwacji lekcji chemi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FA81-1633-4D9A-A33E-8D813FEB8926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chowanie fizyczne, sport i turys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§ 30. W czasie zawodów sportowych organizowanych przez szkołę lub placówkę uczniowie nie mogą pozostawać bez opieki osób do tego upoważnio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§ 31. 1. Stopień trudności i intensywności ćwiczeń dostosowuje się do aktualnej sprawności fizycznej i wydolności ćwicząc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Uczestnika zajęć uskarżającego się na dolegliwości zdrowotne zwalnia się w danym dniu z wykonywania planowanych ćwiczeń, informując o tym jego rodziców (opiekunó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. Ćwiczenia są prowadzone z zastosowaniem metod i urządzeń zapewniających pełne bezpieczeństwo ćwicząc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. Bramki i kosze do gry oraz inne urządzenia, których przemieszczenie się może stanowić zagrożenie dla zdrowia ćwiczących, są mocowane na stał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32C1-68FD-462B-987D-F9FBB47D7E1B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chowanie fizyczne, sport i turys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§ 3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5. Stan techniczny urządzeń i sprzętu sportowego jest sprawdzany przed każdymi zajęci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6. W salach i na boiskach oraz w miejscach wyznaczonych do uprawiania ćwiczeń fizycznych, gier i zabaw umieszcza się tablice informacyjne określające zasady bezpiecznego użytkowania urządzeń i sprzętu sportow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Prowadzący zajęcia zapoznaje osoby biorące w nich udział z zasadami bezpiecznego wykonywania ćwiczeń oraz uczestniczenia w grach i zabawa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70c0"/>
                </a:solidFill>
                <a:latin typeface="Calibri"/>
              </a:rPr>
              <a:t>…</a:t>
            </a:r>
            <a:r>
              <a:rPr b="1" i="1" lang="pl-PL" sz="1800" spc="-1" strike="noStrike">
                <a:solidFill>
                  <a:srgbClr val="0070c0"/>
                </a:solidFill>
                <a:latin typeface="Calibri"/>
              </a:rPr>
              <a:t>i odnotowuje to (czasem) w dzienniku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5C27-5389-421A-AFFE-9323FCC3012F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chowanie fizyczne, sport i turys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32. 1. Przy organizacji zajęć, imprez i wycieczek poza terenem szkoły lub placówk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iczbę opiekunów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az sposób zorganizowania opieki ustala się, uwzględniając wiek, stopień rozwoju psychofizycznego, stan zdrowia i ewentualną niepełnosprawność osób powierzonych opiece szkoły lub placówki, a także specyfikę zajęć, imprez i wycieczek oraz warunki, w jakich będą się one odbywa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Kryteria, o których mowa w ust. 1, uwzględnia się również przy ustalaniu programu zajęć, imprez i wyciecz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28A7-DCA8-4312-AE5C-DD0BB84E74AA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11"/>
          <p:cNvSpPr/>
          <p:nvPr/>
        </p:nvSpPr>
        <p:spPr>
          <a:xfrm>
            <a:off x="236520" y="84240"/>
            <a:ext cx="872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dstawy praw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</a:t>
            </a:r>
            <a:r>
              <a:rPr b="0" lang="pl-PL" sz="1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www.oskko.edu.pl/szkolenia/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Prostokąt 4"/>
          <p:cNvSpPr/>
          <p:nvPr/>
        </p:nvSpPr>
        <p:spPr>
          <a:xfrm>
            <a:off x="395280" y="765000"/>
            <a:ext cx="84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STAWA z dnia 26 stycznia 1982 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arta Nauczyciel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Dz. U. z 2018 r. poz. 967 ze zm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STAWA z dnia 26 czerwca 1974 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odeks prac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Dz. U. z 2018 r. poz. 917 ze zm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OZPORZĄDZENIE MINISTRA EDUKACJI NARODOWEJ I SPORTU z dnia 31 grudnia 2002 r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sprawie bezpieczeństwa i higieny w publicznych i niepublicznych szkołach i placówkach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Dz. U. z 2003 r. Nr 6 ze zm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Dz. U. poz. 1055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OZPORZĄDZENIE MINISTRA SPRAW WEWNĘTRZNYCH I ADMINISTRACJI z dnia 7 czerwca 2010 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sprawie ochrony przeciwpożarowej budynków, innych obiektów budowlanych i terenów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Dz. U. Nr 109, poz. 719 ze zm.)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093C-6BBF-45E3-A849-B3DCF0A0D77C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chowanie fizyczne, sport i turys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34. 1. Jeżeli specyfika wycieczki tego wymaga, jej uczestników zaznajamia się z zasadami bezpiecznego przebywania nad wod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Osoby pozostające pod opieką szkoły lub placówki mogą pływać oraz kąpać się tylko w obrębie kąpielisk i pływalni w rozumieniu przepisów określających warunki bezpieczeństwa osób przebywających w górach, pływających, kąpiących się i uprawiających sporty wod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Nauka pływania może odbywać się tylko w miejscach specjalnie do tego celu wyznaczonych i przystosow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Uczącym się pływać i kąpiącym się zapewnia się stały nadzór ratownika lub ratowników i ustawiczny nadzór opiekuna lub opiekunów ze strony szkoły lub placów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3E4F-7542-4CF0-8381-49E438CB2EE9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chowanie fizyczne, sport i turys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35. 1. Kajaki i łodzie, z których korzystają uczestnicy wycieczek, wyposaża się w sprzęt ratunkow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Ze sprzętu pływającego korzystają jedynie osoby przeszkolone w zakresie jego obsługi oraz posługiwania się wyposażeniem ratunkowy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36. Niedopuszczalne jest używanie łodzi i kajaków podczas silnych wiatr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37. Niedopuszczalne jest urządzanie ślizgawek i lodowisk na rzekach, stawach, jeziorach i innych zbiornikach wod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9F8-C041-4AA7-8F59-BCBD418299CC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chowanie fizyczne, sport i turys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39. Niedopuszczalne jest wydawanie osobom pozostającym pod opieką szkoły lub placówki sprzętu, którego użycie może stwarzać zagrożenie dla zdrowia lub życia, w tym dysku, kuli, młota, oszczepu, łuku, szpady, sportowej broni strzeleckiej - jeżeli szkoła nie ma możliwości zapewnienia warunków bezpiecznego korzystania z tego sprzę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D46E-4CF7-4178-BD27-9A711ED4B095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padki osób pozostających pod opieką szkoły i placów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0. Pracownik szkoły lub placówki, który powziął wiadomość o wypadku, niezwłocznie zapewnia poszkodowanemu opiekę, w szczególności sprowadzając fachową pomoc medyczną, a w miarę możliwości udzielając poszkodowanemu pierwszej pomo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zdarzenia należy uznać za wypadek ucznia i kiedy sporządzić protokó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5517-FEFE-4026-BFB1-4FEB49FDD026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1. 1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 każdym wypadku zawiadamia się niezwłocz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rodziców (opiekunów) poszkodowaneg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pracownika służby bezpieczeństwa i higieny prac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) społecznego inspektora prac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4) organ prowadzący szkołę lub placówkę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5) radę rodzic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O wypadku śmiertelnym, ciężkim i zbiorowym zawiadamia się niezwłocznie prokuratora i organ sprawujący nadzór pedagogicz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O wypadku, do którego doszło w wyniku zatrucia, zawiadamia się niezwłocznie państwowego inspektora sanitarn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4. Zawiadomień, o których mowa w ust. 1-3, dokonuje dyrektor lub upoważniony przez niego pracownik szkoły lub placów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B501-4CED-4E35-B55B-C1B22ECF970C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2. 1. Do czasu rozpoczęcia pracy przez zespół powypadkowy, zwany dalej "zespołem", dyrektor zabezpiecza miejsce wypadku w sposób wykluczający dopuszczenie osób niepowoł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Jeżeli czynności związanych z zabezpieczeniem miejsca wypadku nie może wykonać dyrektor, wykonuje je upoważniony przez dyrektora pracownik szkoły lub placów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3. 1. Członków zespołu powołuje dyrek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E3E2-0C7C-448C-A44B-C5DC997B37F4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4. Przewodniczący zespołu poucza poszkodowanego lub reprezentujące go osoby o przysługujących im prawach w toku postępowania powypadkow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4a. 1. Protokół powypadkowy należy sporządzić w terminie 21 dni od dnia zakończenia postępowania powypadkowego i niezwłocznie doręczyć osobom uprawnionym do zaznajomienia się z materiałami tego postępowa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W uzasadnionych przypadkach protokół powypadkowy może być sporządzony w późniejszym termin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Obraz 8" descr=""/>
          <p:cNvPicPr/>
          <p:nvPr/>
        </p:nvPicPr>
        <p:blipFill>
          <a:blip r:embed="rId2"/>
          <a:stretch/>
        </p:blipFill>
        <p:spPr>
          <a:xfrm>
            <a:off x="6227640" y="4673520"/>
            <a:ext cx="2762280" cy="1825560"/>
          </a:xfrm>
          <a:prstGeom prst="rect">
            <a:avLst/>
          </a:prstGeom>
          <a:ln w="0">
            <a:noFill/>
          </a:ln>
        </p:spPr>
      </p:pic>
      <p:pic>
        <p:nvPicPr>
          <p:cNvPr id="341" name="Obraz 1" descr=""/>
          <p:cNvPicPr/>
          <p:nvPr/>
        </p:nvPicPr>
        <p:blipFill>
          <a:blip r:embed="rId3"/>
          <a:stretch/>
        </p:blipFill>
        <p:spPr>
          <a:xfrm>
            <a:off x="6804000" y="5586480"/>
            <a:ext cx="1397160" cy="323640"/>
          </a:xfrm>
          <a:prstGeom prst="rect">
            <a:avLst/>
          </a:prstGeom>
          <a:ln w="0">
            <a:noFill/>
          </a:ln>
        </p:spPr>
      </p:pic>
      <p:sp>
        <p:nvSpPr>
          <p:cNvPr id="342" name="Owal 9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1555-D29C-42B7-A268-E0202E408F9B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6. 1. Protokół powypadkowy doręcza się osobom uprawnionym do zaznajomienia się z materiałami postępowania powypadkow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Jeden egzemplarz protokołu powypadkowego pozostaje w szkole lub placów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Organowi prowadzącemu i organowi sprawującemu nadzór pedagogiczny protokół powypadkowy doręcza się na ich wnios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76EF-C37B-4629-8198-E9731107CC97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7. Protokół powypadkowy podpisują członkowie zespołu oraz dyrek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8. 1. W ciągu 7 dni od dnia doręczenia protokołu powypadkowego osoby, o których mowa w § 46 ust. 1, mogą złożyć zastrzeżenia do ustaleń protokoł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Zastrzeżenia składa się ustnie do protokołu powypadkowego lub na piśmie przewodniczącemu zespoł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Zastrzeżenia rozpatruje organ prowadzą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trzeżenia mogą dotyczyć w szczegól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niewykorzystania wszystkich środków dowodowych niezbędnych dla ustalenia stanu faktyczneg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sprzeczności istotnych ustaleń protokołu z zebranym materiałem dowodowy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B05C-4806-45BC-B662-CB8B8124C65D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50. 1. Rejestr wypadków prowadzi dyrek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Wzór rejestru wypadków jest określony w załączniku nr 2 do rozporządz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jestr-przykł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35D-C70C-45C8-A87A-346A875F78C3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1825200"/>
            <a:ext cx="8047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. Ilekroć w niniejszym rozporządzeniu jest mowa o „dyrektorze”, rozumie się przez to dyrektora szkoły lub placów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. Dyrektor zapewnia bezpieczne i higieniczne warunki pobytu w szkole lub placówce, a także bezpieczne i higieniczne warunki uczestnictwa w zajęciach organizowanych przez szkołę lub placówkę poza obiektami należącymi do tych jednost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</a:t>
            </a:r>
            <a:r>
              <a:rPr b="0" lang="pl-PL" sz="1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oskko.edu.pl/szkolenia/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wal 1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ymbol zastępczy numeru slajdu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77F5-B019-465D-B4A9-0B7A02A5AAAA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51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yrektor omawia z pracownikami szkoły lub placówki okoliczności i przyczyny wypadków oraz ustala środki niezbędne do zapobieżenia 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52. W sprawach nieuregulowanych w niniejszym rozdziale stosuje się odpowiednio przepisy dotyczące ustalania okoliczności i przyczyn wypadków przy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prawozdanie _wypadki – protokół z zebrania rady pedagogiczn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0FA8-F099-4371-8F4B-9C56AC6C60A7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pl-P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PORZĄDZENIE MINISTRA EDUKACJI NARODOW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dnia 25 maja 2018 r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Dz. U. poz. 105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głoszono dnia 1 czerwca 2018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owiązuje od dnia 2 czerwca 2018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2613-6361-4687-8DE5-25BB9A394A60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. 1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ublicz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rzedszkola, szkoły i placówki, zwane dalej „szkołami”, mogą organizować dla uczniów krajoznawstwo i turystyk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W organizowaniu krajoznawstwa i turystyki szkoły mogą współdziałać ze stowarzyszeniami i innymi podmiotami, których przedmiotem działalności jest krajoznawstwo i turysty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1BCF-79B3-497E-8C4D-F78EA88075F7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§ 2. Organizowanie przez szkoły krajoznawstwa i turystyki ma na celu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1) poznawanie kraju, jego środowiska przyrodniczego, tradycji, zabytków kultury i historii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2) poznawanie kultury i języka innych państw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3) poszerzanie wiedzy z różnych dziedzin życia społecznego, gospodarczego i kulturalnego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4) wspomaganie rodziny i szkoły w procesie wychowani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5) upowszechnianie wśród uczniów zasad ochrony środowiska naturalnego oraz wiedzy o składnikach i funkcjonowaniu rodzimego środowiska przyrodniczego, a także umiejętności korzystania z zasobów przyrody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6) upowszechnianie zdrowego stylu życia i aktywności fizycznej oraz podnoszenie sprawności fizycznej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7) poprawę stanu zdrowia uczniów pochodzących z terenów zagrożonych ekologicznie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8) przeciwdziałanie zachowaniom ryzykownym, w szczególności w ramach profilaktyki uniwersalnej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9) poznawanie zasad bezpiecznego zachowania się w różnych sytuacjach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9087-0BFF-47DA-84ED-31541EE2E610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§ 3.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Krajoznawstwo i turystyka są organizowane w trakcie roku szkolnego,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w szczególności w ramach odpowiednio zajęć dydaktyczno-wychowawczych lub opiekuńczych, z wyjątkiem okresu ferii letnich i zimowych oraz wiosennej i zimowej przerwy świątecznej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768-D477-4D8A-BCAC-4D6649A054FB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8000" y="1412640"/>
            <a:ext cx="80470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§ 4. 1. Krajoznawstwo i turystyka są organizowane w formi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wycieczek przedmiotowych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- inicjowanych i realizowanych przez nauczycieli </a:t>
            </a:r>
            <a:r>
              <a:rPr b="0" lang="pl-PL" sz="1900" spc="-1" strike="noStrike">
                <a:solidFill>
                  <a:srgbClr val="ff0000"/>
                </a:solidFill>
                <a:latin typeface="Calibri"/>
              </a:rPr>
              <a:t>w celu uzupełnienia programu wychowania przedszkolnego albo programu nauczania w ramach jednego lub kilku przedmiotów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wycieczek krajoznawczo-turystycznych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o charakterze interdyscyplinarnym, w których udział nie wymaga od uczniów przygotowania kondycyjnego i umiejętności posługiwania się specjalistycznym sprzętem, organizowanych </a:t>
            </a:r>
            <a:r>
              <a:rPr b="0" lang="pl-PL" sz="1900" spc="-1" strike="noStrike">
                <a:solidFill>
                  <a:srgbClr val="ff0000"/>
                </a:solidFill>
                <a:latin typeface="Calibri"/>
              </a:rPr>
              <a:t>w celu nabywania wiedzy o otaczającym środowisku i umiejętności zastosowania tej wiedzy w praktyce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specjalistycznych wycieczek krajoznawczo-turystycznych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, w których udział wymaga od uczniów przygotowania kondycyjnego, sprawnościowego i umiejętności posługiwania się specjalistycznym sprzętem, a program wycieczki przewiduje intensywną aktywność turystyczną, fizyczną lub długodystansowość na szlakach turystyczny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- zwanych dalej „wycieczkami”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2. Wycieczki mogą być organizowane w kraju lub za granicą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E088-3C3B-43D8-AD62-545630B9904C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8000" y="1412640"/>
            <a:ext cx="80470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5. Organizację i program wycieczki dostosowuje się do wieku, zainteresowań i potrzeb uczniów, ich stanu zdrowia, kondycji, sprawności fizycznej i umiejętnoś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6. 1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godę na zorganizowanie wycieczki wyraża dyrektor szkoły, zatwierdzając kartę wyciecz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Wzór karty wycieczki określa załącznik do rozporządz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Do karty wycieczki dołącza się listę uczniów biorących udział w wycieczce, zawierającą imię i nazwisko ucznia oraz telefon rodzica lub rodziców ucznia. Listę uczniów podpisuje dyrektor szkoł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187A-2CE4-4CE9-9F27-0C9D848FCC7E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8000" y="1711440"/>
            <a:ext cx="8047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8. </a:t>
            </a: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Zgoda rodziców na udział w wycieczce ucznia niepełnoletniego jest wyrażana w formie pisemn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9. 1. Dyrektor szkoły wyznacza kierownika i opiekunów wycieczki spośród pracowników pedagogicznych szkoł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W zależności od celu i programu wycieczk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piekunem wycieczki może być także osoba niebędąca pracownikiem pedagogicznym szkoł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wyznaczona przez dyrektora szkoł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. W przypadku specjalistycznej wycieczki krajoznawczo-turystycznej, o której mowa w § 4 ust. 1 pkt 3, kierownik i opiekunowie wycieczki są obowiązani posiadać udokumentowane przygotowanie zapewniające bezpieczną realizację programu wyciecz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4BB4-866D-4B3D-8DD1-C40E3FC05902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000" y="1483920"/>
            <a:ext cx="8047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§ 10. Kierownik wycieczk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) opracowuje program i regulamin wycieczk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zapoznaje uczniów, rodziców i opiekunów wycieczki z programem i regulaminem wycieczki oraz informuje ich o celu i trasie wycieczk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) zapewnia warunki do pełnej realizacji programu wycieczki i przestrzegania jej regulaminu oraz sprawuje nadzór w tym zakres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) zapoznaje uczniów i opiekunów wycieczki z zasadami bezpieczeństwa oraz zapewnia warunki do ich przestrzega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3099-7EE2-467C-AB13-7A79BEADE3F0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8000" y="1483920"/>
            <a:ext cx="8047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§ 10. Kierownik wycieczk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5) określa zadania opiekunów wycieczki w zakresie realizacji programu wycieczki oraz zapewnienia opieki i bezpieczeństwa ucznio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6) nadzoruje zaopatrzenie uczniów i opiekunów wycieczki w odpowiedni sprzęt, wyposażenie oraz apteczkę pierwszej pomoc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) organizuje i nadzoruje transport, wyżywienie i noclegi dla uczniów i opiekunów wycieczk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8) dokonuje podziału zadań wśród uczni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9) dysponuje środkami finansowymi przeznaczonymi na organizację wycieczk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0)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dokonuje podsumowania, oceny i rozliczenia finansowego wycieczki po jej zakończeniu i informuje o tym dyrektora szkoły i rodziców, w formie i terminie przyjętych w danej szko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D3B9-6EBC-4A31-9CAF-938B014200D0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000" y="1825200"/>
            <a:ext cx="8047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a. 1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yrektor albo upoważniona przez niego osoba prowadzi rejestr wyjść grupowych uczni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z wyjątkiem wycieczek, o których mowa odpowiednio w przepisach wydanych na podstawie art. 47 ust. 1 pkt 8 ustawy z dnia 14 grudnia 2016 r. - Prawo oświatowe oraz w przepisach wydanych na podstawie art. 22 ust. 2 pkt 12 ustawy z dnia 7 września 1991 r. o systemie oświa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Rejestr, o którym mowa w ust. 1, zawiera: </a:t>
            </a: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datę, miejsce i godzinę wyjścia lub zbiórki uczniów, cel lub program wyjścia, miejsce i godzinę powrotu, imiona i nazwiska opiekunów, liczbę uczniów oraz podpisy opiekunów i dyrektora</a:t>
            </a:r>
            <a:r>
              <a:rPr b="0" lang="pl-PL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Rejestr – przykład</a:t>
            </a:r>
            <a:r>
              <a:rPr b="0" lang="pl-PL" sz="24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</a:t>
            </a:r>
            <a:r>
              <a:rPr b="0" lang="pl-PL" sz="10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www.oskko.edu.pl/szkolenia/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Wybuch  2 3"/>
          <p:cNvSpPr/>
          <p:nvPr/>
        </p:nvSpPr>
        <p:spPr>
          <a:xfrm>
            <a:off x="5956200" y="4951440"/>
            <a:ext cx="2808360" cy="1571760"/>
          </a:xfrm>
          <a:prstGeom prst="irregularSeal2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1"/>
          <p:cNvSpPr/>
          <p:nvPr/>
        </p:nvSpPr>
        <p:spPr>
          <a:xfrm>
            <a:off x="6588000" y="552600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9 listopada 2018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wal 10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B03F-A9D9-4488-94EF-BEE0E9171366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EDUKACJI NARODOWEJ z dnia 25 maja 2018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prawie warunków i sposobu organizowania przez publiczne przedszkola, szkoły i placówki krajoznawstwa i turystyk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000" y="1915920"/>
            <a:ext cx="8047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1. Opiekun wyciecz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sprawuje opiekę nad powierzonymi mu uczniam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współdziała z kierownikiem wycieczki w zakresie realizacji programu wycieczki i przestrzegania jej regulamin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) sprawuje nadzór nad przestrzeganiem regulaminu wycieczki przez uczniów, ze szczególnym uwzględnieniem zasad bezpieczeństw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4) nadzoruje wykonywanie zadań przydzielonych ucznio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5) wykonuje inne zadania zlecone przez kierownika wyciecz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2. Dyrektor szkoły może wyrazić zgodę na łączenie funkcji kierownika i opiekuna wyciecz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E6A2-2836-4AE8-B5F5-DFA9C52404E7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yjście czy wycieczka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8000" y="1483920"/>
            <a:ext cx="8047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jście do k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jście do kina – komunikacja miejs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jazd autokarem do kina w centrum mias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jazd do innej miejscowości – zwiedzanie skanse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jazd autokarem na zajęcia basenow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cieczka piesza szlakiem zabytkowych kamienic (historia, język polsk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jście na pobliski plac zaba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jście do restauracji – warsztaty kulinar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Trzeba omówić to w szkol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Może warto stworzyć jakieś ramy, zasady dotyczące wycieczek/wyjść w danej szk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A89D-2754-4E7B-8ACA-1B80547E9EE3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 naszej (skromnej) praktyki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wietlica_regula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wietlica_ka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psp23.radom.pl/rodzice_1/swietlic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kres_inspektorb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pl-PL" sz="2000" spc="-1" strike="noStrike">
                <a:solidFill>
                  <a:srgbClr val="0070c0"/>
                </a:solidFill>
                <a:latin typeface="Calibri"/>
              </a:rPr>
              <a:t>Zakresy obowiązków w teczkach akt osobowych to ważna rzecz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70c0"/>
                </a:solidFill>
                <a:latin typeface="Calibri"/>
              </a:rPr>
              <a:t>Arkusz monitorowania bhp - przykł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A44D-A424-4495-954A-09E699751B8F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mprezy masowe w szkole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28560" y="1341360"/>
            <a:ext cx="7886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http://prawo.sejm.gov.pl/isap.nsf/download.xsp/WDU20090620504/U/D20090504Lj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USTAWA z dnia 20 marca 2009r. o bezpieczeństwie imprez masowy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Art.3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Ilekroć w ustawie jest mowa o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1)imprezie masowej –należy przez to rozumieć imprezę masową artystyczno-rozrywkową, masową imprezę sportową, w tym mecz piłki nożnej, o których mowa w pkt 2–4, 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z wyjątkiem imprez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a)organizowanych w teatrach, operach, operetkach, filharmoniach, kinach, muzeach,  bibliotekach,  domach  kultury  i galeriach  sztuki  lub  w innyc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900" spc="-1" strike="noStrike">
                <a:solidFill>
                  <a:srgbClr val="ff0000"/>
                </a:solidFill>
                <a:latin typeface="Calibri"/>
              </a:rPr>
              <a:t>b)organizowanych w szkołach  i placówkach  oświatowych  przez zarządzających tymi szkołami i placówkami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c)organizowanych    w ramach  współzawodnictwa  sportowego  dzieci i młodzieży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d)sportowych organizowanych dla sportowców niepełnosprawnych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e)sportu powszechnego o charakterze rekreacji ruchowej, ogólnodostępnym i nieodpłatnym, organizowanych na terenie otwartym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45BC-97D9-4CF6-B912-93B2571E0CCE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wakuacja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28200" y="1341360"/>
            <a:ext cx="804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Calibri"/>
              </a:rPr>
              <a:t>ROZPORZĄDZENIE MINISTRA SPRAW WEWNĘTRZNYCH I ADMINISTRACJI z dnia 7 czerwca 2010 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Calibri"/>
              </a:rPr>
              <a:t>w sprawie ochrony przeciwpożarowej budynków, innych obiektów budowlanych i terenów (Dz. U. Nr 109 ze zm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§ 17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2. W przypadku obiektów, w których cyklicznie zmienia się jednocześnie grupa powyżej 50 użytkowników, w szczególności: </a:t>
            </a: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szkół, przedszkoli,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 internatów, domów studenckich, praktycznego sprawdzenia organizacji oraz warunków ewakuacji należy dokonać - co najmniej raz na rok, jednak (…)</a:t>
            </a:r>
            <a:r>
              <a:rPr b="1" lang="pl-PL" sz="1700" spc="-1" strike="noStrike">
                <a:solidFill>
                  <a:srgbClr val="ff0000"/>
                </a:solidFill>
                <a:latin typeface="Calibri"/>
              </a:rPr>
              <a:t> w terminie nie dłuższym niż 3 miesiące od dnia rozpoczęcia korzystania z obiektu przez nowych użytkowników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l-PL" sz="1700" spc="-1" strike="noStrike">
                <a:solidFill>
                  <a:srgbClr val="ff0000"/>
                </a:solidFill>
                <a:latin typeface="Calibri"/>
              </a:rPr>
              <a:t>Właściciel lub zarządca obiektu powiadamia właściwego miejscowo komendanta powiatowego (miejskiego) Państwowej Straży Pożarnej o terminie przeprowadzenia działań, o których mowa w ust. 1, nie później niż na tydzień przed ich przeprowadzeniem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700" spc="-1" strike="noStrike">
                <a:solidFill>
                  <a:srgbClr val="ff0000"/>
                </a:solidFill>
                <a:latin typeface="Calibri"/>
              </a:rPr>
              <a:t>Ewakuacja_sprawozdanie – przykła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700" spc="-1" strike="noStrike">
                <a:solidFill>
                  <a:srgbClr val="ff0000"/>
                </a:solidFill>
                <a:latin typeface="Calibri"/>
              </a:rPr>
              <a:t>Ewakuacja - zna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700" spc="-1" strike="noStrike">
                <a:solidFill>
                  <a:srgbClr val="00b0f0"/>
                </a:solidFill>
                <a:latin typeface="Calibri"/>
              </a:rPr>
              <a:t>Czy robiliście ewakuację podczas przerwy lekcyjnej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BEA8-7758-458F-9518-D7F9A49093E3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eglądy budynku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28560" y="1341360"/>
            <a:ext cx="7886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TAWA z dnia 7 lipca 1994 r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wo budowlan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Dz. U. z 2018 r. poz. 1202 ze z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rt. 62. 1. Obiekty budowlane powinny być w czasie ich użytkowania poddawane przez właściciela lub zarządcę kontrol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kresowej, co najmniej raz w rok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legającej na sprawdzeniu stanu techniczneg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) elementów budynku, budowli i instalacji narażonych na szkodliwe wpływy atmosferyczne i niszczące działania czynników występujących podczas użytkowania obiekt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) instalacji i urządzeń służących ochronie środowisk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) instalacji gazowych oraz przewodów kominowych (dymowych, spalinowych i wentylacyjnych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D31-0E07-43FE-B289-6BF473FE9DC8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eglądy budynku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TAWA z dnia 7 lipca 1994 r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wo budowlan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Dz. U. z 2018 r. poz. 1202 ze z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rt. 62. 1. Obiekty budowlane powinny być w czasie ich użytkowania poddawane przez właściciela lub zarządcę kontrol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kresowej, co najmniej raz na 5 la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legającej na sprawdzeniu stanu technicznego i przydatności do użytkowania obiektu budowlanego, estetyki obiektu budowlanego oraz jego otoczenia; kontrolą tą powinno być objęte również badanie instalacji elektrycznej i piorunochronnej w zakresie stanu sprawności połączeń, osprzętu, zabezpieczeń i środków ochrony od porażeń, oporności izolacji przewodów oraz uziemień instalacji i aparatów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A4F1-7D80-4B17-851A-9F7F89531E97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eglądy budynku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28560" y="1341360"/>
            <a:ext cx="7886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STAWA z dnia 7 lipca 1994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awo budowlan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Dz. U. z 2018 r. poz. 1202 ze zm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rt. 6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4. Kontrole, o których mowa w ust. 1, z zastrzeżeniem ust. 5-6a, przeprowadzają osoby posiadające uprawnienia budowlane w odpowiedniej specjalnoś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5. Kontrole stanu techniczneg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stalacji elektrycznych, piorunochronnych i gazowych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 których mowa w ust. 1 pkt 1 lit. c i pkt 2, mogą przeprowadzać osoby posiadające kwalifikacje wymagane przy wykonywaniu dozoru nad eksploatacją urządzeń, instalacji oraz sieci energetycznych i gazow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6. Kontrolę stanu techniczneg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wodów kominow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o której mowa w ust. 1 pkt 1 lit. c, powinny przeprowadzać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) osoby posiadające kwalifikacje mistrza w rzemiośle kominiarskim - w odniesieniu do przewodów dymowych oraz grawitacyjnych przewodów spalinowych i wentylacyjn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osoby posiadające uprawnienia budowlane odpowiedniej specjalności - w odniesieniu do przewodów kominowych, o których mowa w pkt 1, oraz do kominów przemysłowych, kominów wolno stojących oraz kominów lub przewodów kominowych, w których ciąg kominowy jest wymuszony pracą urządzeń mechanic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76AD-4D57-450D-B2B4-93338278DC5F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eglądy przeciwpożarowe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28560" y="1341360"/>
            <a:ext cx="7886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RZĄDZENIE MINISTRA SPRAW WEWNĘTRZNYCH I ADMINISTRACJI z dnia 7 czerwca 2010 r. w spraw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hrony przeciwpożarowej budynków, innych obiektów budowlanych i teren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Dz. U. Nr 109, poz. 719ze zm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§ 3. 2.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Urządzenia przeciwpożarowe oraz gaśnice przenośne i przewoź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zwane dalej "gaśnicami", powinny być poddawane przeglądom technicznym i czynnościom konserwacyjnym, zgodnie z zasadami i w sposób określony w Polskich Normach dotyczących urządzeń przeciwpożarowych i gaśnic, w dokumentacji techniczno-ruchowej oraz w instrukcjach obsługi, opracowanych przez ich producen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. Przeglądy techniczne i czynności konserwacyjne powinny być przeprowadzane w okresach ustalonych przez producenta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rzadziej jednak niż raz w ro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ęże stanowiące wyposażenie hydrantów wewnętrznych powinny być raz na 5 lat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dawane próbie ciśnieniowej na maksymalne ciśnienie robocze, zgodnie z Polską Normą dotyczącą konserwacji hydrantów wewnętr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915B-592A-43E7-BD21-882DAFE91DEF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ezpieczeństwo w Kodeksie Pracy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95280" y="1690200"/>
            <a:ext cx="8718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rt. 207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codawc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ponosi odpowiedzialność za stan bezpieczeństwa i higieny pracy w zakładzie pracy. Na zakres odpowiedzialności pracodawcy nie wpływają obowiązki pracowników w dziedzinie bezpieczeństwa i higieny pracy oraz powierzenie wykonywania zadań służby bezpieczeństwa i higieny pracy specjalistom spoza zakładu pracy, o których mowa w art. 237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§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8451-5145-41BE-940B-26D35D8B6AF2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000" y="1825200"/>
            <a:ext cx="8047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3. 1. Dyrektor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o najmniej raz w rok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dokonuje kontroli zapewniania bezpiecznych i higienicznych warunków korzystania z obiektów należących do szkoły lub placówki, w tym bezpiecznych i higienicznych warunków nauki, oraz określa kierunki ich popraw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Z ustaleń kontroli sporządza się protokół, który podpisują osoby biorące w niej udział. Kopię protokołu dyrektor przekazuje organowi prowadzącem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Protokół kontroli warunków b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</a:t>
            </a:r>
            <a:r>
              <a:rPr b="0" lang="pl-PL" sz="10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www.oskko.edu.pl/szkolenia/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F301-8C79-4535-88D3-C79C7EB92E4D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ezpieczeństwo w Kodeksie Pracy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95280" y="1125000"/>
            <a:ext cx="87184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rt. 207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codawc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jest obowiązany chronić zdrowie i życie pracowników przez zapewnienie bezpiecznych i higienicznych warunków pracy przy odpowiednim wykorzystaniu osiągnięć nauki i techniki. W szczególności pracodawca jest obowiązan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organizować pracę w sposób zapewniający bezpieczne i higieniczne warunki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zapewniać przestrzeganie w zakładzie pracy przepisów oraz zasad bezpieczeństwa i higieny pracy, wydawać polecenia usunięcia uchybień w tym zakresie oraz kontrolować wykonanie tych poleceń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) reagować na potrzeby w zakresie zapewnienia bezpieczeństwa i higieny pracy oraz dostosowywać środki podejmowane w celu doskonalenia istniejącego poziomu ochrony zdrowia i życia pracowników, biorąc pod uwagę zmieniające się warunki wykonywania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1B52-33D9-4CF9-8AC5-3214503CAC48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ezpieczeństwo w Kodeksie Pracy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95280" y="1125000"/>
            <a:ext cx="87184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rt. 207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codawc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obowiązany chronić zdrowie i życie pracowników przez zapewnienie bezpiecznych i higienicznych warunków pracy przy odpowiednim wykorzystaniu osiągnięć nauki i techniki. W szczególności pracodawca jest obowiązan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4) zapewnić rozwój spójnej polityki zapobiegającej wypadkom przy pracy i chorobom zawodowym uwzględniającej zagadnienia techniczne, organizację pracy, warunki pracy, stosunki społeczne oraz wpływ czynników środowiska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5) uwzględniać ochronę zdrowia młodocianych, pracownic w ciąży lub karmiących dziecko piersią oraz pracowników niepełnosprawnych w ramach podejmowanych działań profilaktyczn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6) zapewniać wykonanie nakazów, wystąpień, decyzji i zarządzeń wydawanych przez organy nadzoru nad warunkami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7) zapewniać wykonanie zaleceń społecznego inspektora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B5BB-AFE5-4B0E-98E1-589949E76759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ezpieczeństwo w Kodeksie Pracy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36160" y="1125000"/>
            <a:ext cx="88772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rt. 207</a:t>
            </a:r>
            <a:r>
              <a:rPr b="1" lang="pl-PL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1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codawca j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st obowiązany przekazywać pracownikom informacje 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zagrożeniach dla zdrowia i życia występujących w zakładzie pracy, na poszczególnych stanowiskach pracy i przy wykonywanych pracach, w tym o zasadach postępowania w przypadku awarii i innych sytuacji zagrażających zdrowiu i życiu pracowni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działaniach ochronnych i zapobiegawczych podjętych w celu wyeliminowania lub ograniczenia zagrożeń, o których mowa w pkt 1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pracownikach wyznaczonych d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) udzielania pierwszej pomo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) wykonywania działań w zakresie zwalczania pożarów i ewakuacji pracownik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2. Informacja o pracownikach, o których mowa w § 1 pkt 3, obejmuj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imię i nazwisk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miejsce wykonywania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) numer telefonu służbowego lub innego środka komunikacji elektroniczn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06FF-744A-46A5-9FA2-62A86460B2B1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ezpieczeństwo w Kodeksie Pracy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36160" y="1125000"/>
            <a:ext cx="88772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rt. 211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strzeganie przepisów i zasad bezpieczeństwa i higieny pracy jest podstawowym obowiązkiem pracownika. W szczególnośc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cownik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jest obowiązan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) znać przepisy i zasady bezpieczeństwa i higieny pracy, brać udział w szkoleniu i instruktażu z tego zakresu oraz poddawać się wymaganym egzaminom sprawdzającym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wykonywać pracę w sposób zgodny z przepisami i zasadami bezpieczeństwa i higieny pracy oraz stosować się do wydawanych w tym zakresie poleceń i wskazówek przełożo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) dbać o należyty stan maszyn, urządzeń, narzędzi i sprzętu oraz o porządek i ład w miejscu prac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) stosować środki ochrony zbiorowej, a także używać przydzielonych środków ochrony indywidualnej oraz odzieży i obuwia roboczego, zgodnie z ich przeznaczeniem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5) poddawać się wstępnym, okresowym i kontrolnym oraz innym zaleconym badaniom lekarskim i stosować się do wskazań lekarski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6) niezwłocznie zawiadomić przełożonego o zauważonym w zakładzie pracy wypadku albo zagrożeniu życia lub zdrowia ludzkiego oraz ostrzec współpracowników, a także inne osoby znajdujące się w rejonie zagrożenia, o grożącym im niebezpieczeństwi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) współdziałać z pracodawcą i przełożonymi w wypełnianiu obowiązków dotyczących bezpieczeństwa i higieny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FD7A-7B02-45E7-8382-DFF3BED0342A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36160" y="364680"/>
            <a:ext cx="82789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as pracy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5280" y="980640"/>
            <a:ext cx="81201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Kodeks Pra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rt. 129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§ 1. Czas pracy nie może przekraczać </a:t>
            </a:r>
            <a:r>
              <a:rPr b="1" lang="pl-PL" sz="2100" spc="-1" strike="noStrike">
                <a:solidFill>
                  <a:srgbClr val="ff0000"/>
                </a:solidFill>
                <a:latin typeface="Calibri"/>
              </a:rPr>
              <a:t>8 godzin na dobę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i przeciętnie 40 godzin w przeciętnie pięciodniowym tygodniu pracy w przyjętym okresie rozliczeniowym nieprzekraczającym 4 miesięcy, z zastrzeżeniem art. 135-138, 143 i 144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rt. 134. Jeżeli dobowy wymiar czasu pracy pracownika wynosi co najmniej 6 godzin, pracownik ma prawo do </a:t>
            </a:r>
            <a:r>
              <a:rPr b="1" lang="pl-PL" sz="2100" spc="-1" strike="noStrike">
                <a:solidFill>
                  <a:srgbClr val="ff0000"/>
                </a:solidFill>
                <a:latin typeface="Calibri"/>
              </a:rPr>
              <a:t>przerwy w pracy trwającej co najmniej 15 minut,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wliczanej do czasu pracy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Karta Nauczyciel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rt. 42. 1. Czas pracy nauczyciela zatrudnionego w pełnym wymiarze zajęć nie może przekraczać 40 godzin na tydzień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361F-EE13-43AC-943B-7B275618E8C4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36160" y="364680"/>
            <a:ext cx="82789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as pracy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95280" y="980640"/>
            <a:ext cx="81201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Kodeks Pra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Art. 149.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§ 1. Pracodawca prowadzi ewidencję czasu pracy pracownika do celów prawidłowego ustalenia jego wynagrodzenia i innych świadczeń związanych z pracą. Pracodawca udostępnia tę ewidencję pracownikowi, na jego żądani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pl-PL" sz="2100" spc="-1" strike="noStrike">
                <a:solidFill>
                  <a:srgbClr val="ff0000"/>
                </a:solidFill>
                <a:latin typeface="Calibri"/>
              </a:rPr>
              <a:t>Lista obecności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100" spc="-1" strike="noStrike">
                <a:solidFill>
                  <a:srgbClr val="00b0f0"/>
                </a:solidFill>
                <a:latin typeface="Calibri"/>
              </a:rPr>
              <a:t>Jak nauczyciel dokumentuje swoją obecność w pracy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pl-PL" sz="2100" spc="-1" strike="noStrike">
                <a:solidFill>
                  <a:srgbClr val="000000"/>
                </a:solidFill>
                <a:latin typeface="Calibri"/>
              </a:rPr>
              <a:t>Dzienniki zajęć lekcyjny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pl-PL" sz="2100" spc="-1" strike="noStrike">
                <a:solidFill>
                  <a:srgbClr val="000000"/>
                </a:solidFill>
                <a:latin typeface="Calibri"/>
              </a:rPr>
              <a:t>Dzienniki zajęć dodatkowy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pl-PL" sz="2100" spc="-1" strike="noStrike">
                <a:solidFill>
                  <a:srgbClr val="000000"/>
                </a:solidFill>
                <a:latin typeface="Calibri"/>
              </a:rPr>
              <a:t>Lista z zebrania rady pedagogicznej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pl-PL" sz="21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64D-1166-4EDC-9B39-ADC883C0EB4E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36160" y="364680"/>
            <a:ext cx="82789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aca nauczyciela w czasie ferii i wakacji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95280" y="980640"/>
            <a:ext cx="81201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K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rt. 64. 1. Nauczycielowi zatrudnionemu w szkole, w której w organizacji pracy przewidziano ferie szkolne,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przysługuje urlop wypoczynkowy w wymiarze odpowiadającym okresowi ferii i w czasie ich trwania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2. Nauczyciel, o którym mowa w ust. 1, może być zobowiązany przez dyrektora do wykonywania w czasie tych ferii następujących czynności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1) przeprowadzania egzaminów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2) prac związanych z zakończeniem roku szkolnego i przygotowaniem nowego roku szkolnego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3) opracowywania szkolnego zestawu programów oraz uczestniczenia w doskonaleniu zawodowym w określonej form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Czynności, o których mowa w pkt 1-3, nie mogą łącznie zająć nauczycielowi więcej niż 7 dni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A608-BFC9-48B2-85AD-1A07CFB4C017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36160" y="364680"/>
            <a:ext cx="82789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 jeszcze z Karty Nauczyciela…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95280" y="1773360"/>
            <a:ext cx="8120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rt. 69. 1. (uchylony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2. W razie gdy czas pracy kobiety karmiącej dziecko wynosi ponad 4 godziny ciągłej pracy dziennie, przysługuje jej prawo korzystania z jednej godziny przerwy wliczanej do czasu pracy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19D8-1C24-427C-B571-014BAC0F28EF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36160" y="364680"/>
            <a:ext cx="82789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 jeszcze z Karty Nauczyciela…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95280" y="1773360"/>
            <a:ext cx="8120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rt. 35. 1. W szczególnych wypadkach, podyktowanych wyłącznie koniecznością realizacji programu nauczania, nauczyciel może być obowiązany do odpłatnej pracy w godzinach ponadwymiarowych zgodnie z posiadaną specjalnością, których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liczba nie może przekroczyć 1/4 tygodniowego obowiązkowego wymiaru godzin zajęć.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ydzielenie nauczycielowi większej liczby godzin ponadwymiarowych może nastąpić wyłącznie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za jego zgodą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, jednak w wymiarze nieprzekraczającym 1/2 tygodniowego obowiązkowego wymiaru godzin zajęć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FC68-AB4B-469B-B208-A45B66528385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36160" y="364680"/>
            <a:ext cx="82789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 jeszcze z Karty Nauczyciela…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95280" y="1773360"/>
            <a:ext cx="8120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rt. 35. 2. Przez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godzinę ponadwymiarową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rozumie się przydzieloną nauczycielowi godzinę zajęć dydaktycznych, wychowawczych lub opiekuńczych powyżej tygodniowego obowiązkowego wymiaru godzin zajęć dydaktycznych, wychowawczych lub opiekuńczyc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2a. Przez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godzinę doraźnego zastępstwa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rozumie się przydzieloną nauczycielowi godzinę zajęć dydaktycznych, wychowawczych lub opiekuńczych powyżej tygodniowego obowiązkowego wymiaru godzin zajęć dydaktycznych, wychowawczych lub opiekuńczych, której realizacja następuje w zastępstwie nieobecnego nauczyciel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EE5E-EC5B-418C-A30B-9AD433E5B351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000" y="1825200"/>
            <a:ext cx="8047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. Plan zajęć dydaktyczno-wychowawczych uwzględn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równomierne obciążenie uczniów zajęciami w poszczególnych dniach tygodn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zróżnicowanie zajęć w każdym dni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) możliwości psychofizyczne uczniów podejmowania intensywnego wysiłku umysłowego w ciągu d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4a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yrektor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ewnia uczniom w szkole lub placówce miejsce na pozostawienie podręczników i przyborów szkol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</a:t>
            </a:r>
            <a:r>
              <a:rPr b="0" lang="pl-PL" sz="1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oskko.edu.pl/szkolenia/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Wybuch  2 3"/>
          <p:cNvSpPr/>
          <p:nvPr/>
        </p:nvSpPr>
        <p:spPr>
          <a:xfrm>
            <a:off x="5956200" y="4951440"/>
            <a:ext cx="2808360" cy="1571760"/>
          </a:xfrm>
          <a:prstGeom prst="irregularSeal2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1"/>
          <p:cNvSpPr/>
          <p:nvPr/>
        </p:nvSpPr>
        <p:spPr>
          <a:xfrm>
            <a:off x="6588000" y="552600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9 listopada 2018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wal 10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E6BF-5433-4310-93B3-F2F3B5D95F4B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36160" y="364680"/>
            <a:ext cx="82789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 jeszcze z Karty Nauczyciela…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95280" y="1773360"/>
            <a:ext cx="8120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rt. 35. 4. Kobiecie w ciąży, osobie wychowującej dziecko do lat 4 oraz nauczycielowi w trakcie odbywania stażu nie przydziela się pracy w godzinach ponadwymiarowych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bez ich zgody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AE26-CDC0-4A67-8D96-65942A3698C8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awanie dziecku leków ratujących zdrowie i życie…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08000" y="1825200"/>
            <a:ext cx="8407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zecznik w sprawie zasad podawania leków dzieciom z chorobami przewlekłymi w przedszkola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ta: 2018-01-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rakuje przepisów, które jasno określałyby zasady podawania leków dzieciom w przedszkolach. To bardzo ważne w przypadku przedszkolaków z chorobami przewlekły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zecznik pisze w tej sprawie do Ministra Zdrow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s://www.rpo.gov.pl/pl/content/rzecznik-w-sprawie-zasad-podawania-lekow-dzieciom-z-chorobami-przewleklymi-w-przedszko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00FE-9CF3-465E-8F27-7FC710038036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dawanie dziecku leków ratujących zdrowie i życie…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8000" y="1825200"/>
            <a:ext cx="8407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jekt założeń projektu ustawy o zdrowiu dzieci i młodzieży w wieku szkol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s://legislacja.rcl.gov.pl/projekt/12303352/katalog/1246029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[Rodzaj dokumentu: doc] Uwagi - Związek Województw 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utor dokumentu: Minister Zdrowia   , wprowadzony przez: Rafał Babra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ata utworzenia: 25-01-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F7CD-3F4B-47C8-A96A-E8CB8F366843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 naszej (skromnej) praktyki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formacje od rodzi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40F2-7A19-4DDE-BDA7-AD5A99228602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jęcia dodatkowe nauczycieli płatne…?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28560" y="1341360"/>
            <a:ext cx="7886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rt. 42. 1. Czas pracy nauczyciela zatrudnionego w pełnym wymiarze zajęć nie może przekraczać 40 godzin na tydzie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W ramach czasu pracy, o którym mowa w ust. 1, oraz ustalonego wynagrodzenia nauczyciel obowiązany jest realizowa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1) zajęcia dydaktyczne, wychowawcze i opiekuńcze, prowadzone bezpośrednio z uczniami lub wychowankami albo na ich rzecz, w wymiarze określonym w ust. 3 lub ustalonym na podstawie ust. 4a albo ust. 7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) inne zajęcia i czynności wynikające z zadań statutowych szkoły, w tym zajęcia opiekuńcze i wychowawcze uwzględniające potrzeby i zainteresowania uczniów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3) zajęcia i czynności związane z przygotowaniem się do zajęć, samokształceniem i doskonaleniem zawodowy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B51C-8DFF-478D-90E9-995F66157BB4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jęcia dodatkowe nauczycieli płatne…?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28560" y="1341360"/>
            <a:ext cx="78868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rt. 4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d. W ramach zajęć i czynności, o których mowa w ust. 2 pkt 2, </a:t>
            </a: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nauczyciel nie prowadzi zajęć świetlicowych oraz zajęć z zakresu pomocy psychologiczno-pedagogiczne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http://www.oskko.edu.pl/szkolenia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3086-6616-4B9E-8A5B-667F2E709BDF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24000" y="365040"/>
            <a:ext cx="81914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 forum OSKKO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24000" y="1052640"/>
            <a:ext cx="81914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KJ    11-02-2019 17:37:26   [#09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 1 stycznia 2019 r.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rt. 2 ustawy z dnia 9 listopada 2018 r. o zmianie niektórych ustaw w celu wprowadzenia uproszczeń dla przedsiębiorców w prawie podatkowym i gospodarczym (Dz. U. poz. 2244) wprowadza zmiany w art. 237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Kodeksu prac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w art. 237</a:t>
            </a:r>
            <a:r>
              <a:rPr b="0" i="1" lang="pl-PL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po § 2</a:t>
            </a:r>
            <a:r>
              <a:rPr b="0" i="1" lang="pl-PL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dodaje się § 2</a:t>
            </a:r>
            <a:r>
              <a:rPr b="0" i="1" lang="pl-PL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2</a:t>
            </a:r>
            <a:r>
              <a:rPr b="0" i="1" lang="pl-PL" sz="2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w brzmieniu: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„§ 2</a:t>
            </a:r>
            <a:r>
              <a:rPr b="0" i="1" lang="pl-PL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Szkolenie okresowe pracownika, o którym mowa w § 2, nie jest wymagane w przypadku pracownika na stanowisku administracyjno-biurowym, gdy rodzaj przeważającej działalności pracodawcy w rozumieniu przepisów o statystyce publicznej znajduje się w grupie działalności, dla której ustalono nie wyższą niż trzecia kategorię ryzyka w rozumieniu przepisów o ubezpieczeniu społecznym z tytułu wypadków przy pracy i chorób zawodowych, chyba że z oceny ryzyka, o której mowa w art. 226 pkt 1, wynika, że jest to koniecz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E715-6D39-436C-AA24-8C82455B2CEA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365040"/>
            <a:ext cx="81914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 forum OSKKO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24000" y="1052640"/>
            <a:ext cx="81914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KJ    11-02-2019 17:37:26   [#09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 1 stycznia 2019 r.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§ 2</a:t>
            </a:r>
            <a:r>
              <a:rPr b="0" i="1" lang="pl-PL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. W przypadku gdy rodzaj przeważającej działalności pracodawcy w rozumieniu przepisów o statystyce publicznej znajdzie się w grupie działalności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, dla której zostanie ustalona wyższa niż trzecia kategoria ryzyka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w rozumieniu przepisów o ubezpieczeniu społecznym z tytułu wypadków przy pracy i chorób zawodowych, </a:t>
            </a: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pracodawca jest obowiązany przeprowadzić szkolenie okresowe pracownika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, o którym mowa w § 2</a:t>
            </a:r>
            <a:r>
              <a:rPr b="0" i="1" lang="pl-PL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, w zakresie bezpieczeństwa i higieny pracy, w terminie nie dłuższym niż 6 miesięcy, licząc od dnia ustalenia wyższej kategorii ryzy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A68E-D5DD-4F98-A801-D3741BA2E2C3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4000" y="365040"/>
            <a:ext cx="81914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 forum OSKKO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24000" y="1052640"/>
            <a:ext cx="81914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KJ    11-02-2019 17:37:26   [#09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 1 stycznia 2019 r.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ęgamy teraz do Rozporządzenia Ministra Pracy i Polityki Społecznej z dnia 29 listopada 2002 r. w sprawie różnicowania stopy procentowej składki na ubezpieczenie społeczne z tytułu wypadków przy pracy i chorób zawodowych w zależności od zagrożeń zawodowych i ich skutków (Dz. U. z 2016 r. poz. 1005 oraz z 2018 r. poz. 502) i tam, w załączniku nr 2 w lp. 61, czytamy, ż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dukacja znajduje się w trzeciej kategorii ryzy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co oznacza, że w przypadku pracowników szkoły okresowe szkolenie bhp nie jest wymag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000F-DBE9-44E1-B857-CB7C9F40EF56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4000" y="365040"/>
            <a:ext cx="819144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pl-P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24000" y="1699920"/>
            <a:ext cx="81914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ę i inne prezentacje XVI Konferencji OSKKO można pobrać na stro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oskko.edu.pl/konferencjaoskko2019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3202-6F23-48A4-8342-454ABC57595C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2491920"/>
            <a:ext cx="80470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5. 1. Plan ewakuacji szkoły lub placówki umieszcza się w widocznym miejscu, w sposób zapewniający łatwy do niego dostę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Drogi ewakuacyjne oznacza się w sposób wyraźny i trwał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</a:t>
            </a:r>
            <a:r>
              <a:rPr b="0" lang="pl-PL" sz="1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oskko.edu.pl/szkolenia/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wal 8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27FD-F442-447A-9529-2823D6364B7E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24000" y="365040"/>
            <a:ext cx="81914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ytania i refleksje…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24000" y="1052640"/>
            <a:ext cx="81914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76E9-CA80-4A29-962A-8EC3C39E7396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ole tekstowe 11"/>
          <p:cNvSpPr/>
          <p:nvPr/>
        </p:nvSpPr>
        <p:spPr>
          <a:xfrm>
            <a:off x="971640" y="234936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ziękujemy za uwagę</a:t>
            </a:r>
            <a:r>
              <a:rPr b="1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zabela.lesniewska@oskko.edu.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Obraz 2" descr="Obraz zawierający znak&#13;&#10;&#13;&#10;Opis wygenerowany przy wysokim poziomie pewności"/>
          <p:cNvPicPr/>
          <p:nvPr/>
        </p:nvPicPr>
        <p:blipFill>
          <a:blip r:embed="rId1"/>
          <a:stretch/>
        </p:blipFill>
        <p:spPr>
          <a:xfrm>
            <a:off x="15840" y="0"/>
            <a:ext cx="9144000" cy="1486080"/>
          </a:xfrm>
          <a:prstGeom prst="rect">
            <a:avLst/>
          </a:prstGeom>
          <a:ln w="0">
            <a:noFill/>
          </a:ln>
        </p:spPr>
      </p:pic>
      <p:sp>
        <p:nvSpPr>
          <p:cNvPr id="661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8AF5-C55B-4C23-B020-60FF82F3A85A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160" y="365040"/>
            <a:ext cx="8278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ROZPORZĄDZENIE MINISTRA EDUKACJI NARODOWEJ I SPORTU z dnia 31 grudnia 2002 r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 Light"/>
              </a:rPr>
              <a:t>w sprawie bezpieczeństwa i higieny w publicznych i niepublicznych szkołach i placówkach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 Light"/>
              </a:rPr>
              <a:t>(Dz. U. z 2003 r. Nr 6 ze zm.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000" y="1988640"/>
            <a:ext cx="8047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§ 6. 1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ce remontowe, naprawcze i instalacyjn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mieszczeniach szkoły lub placówki przeprowadza się pod nieobecność w tych pomieszczeniach osób, którym szkoła lub placówka zapewniają opiek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Zajęcia poza pomieszczeniami szkoły lub placówki nie mogą odbywać się w tych miejscach, w których prowadzone są prace wymienione w ust.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7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ateriały OSKKO: </a:t>
            </a:r>
            <a:r>
              <a:rPr b="0" lang="pl-PL" sz="1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www.oskko.edu.pl/szkolenia/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wal 10"/>
          <p:cNvSpPr/>
          <p:nvPr/>
        </p:nvSpPr>
        <p:spPr>
          <a:xfrm>
            <a:off x="8604360" y="365040"/>
            <a:ext cx="303120" cy="254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ymbol zastępczy numeru slajd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5EA2-666A-4707-A543-A5499DF5A332}" type="slidenum">
              <a:rPr b="0" lang="pl-P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1:38:40Z</dcterms:created>
  <dc:creator>Marek</dc:creator>
  <dc:description/>
  <dc:language>en-US</dc:language>
  <cp:lastModifiedBy>Iza</cp:lastModifiedBy>
  <dcterms:modified xsi:type="dcterms:W3CDTF">2019-03-07T10:30:09Z</dcterms:modified>
  <cp:revision>317</cp:revision>
  <dc:subject/>
  <dc:title>Slajd 1</dc:title>
</cp:coreProperties>
</file>