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4EA2-9DF5-4FFC-81CB-BFC7D2A4C8B7}" type="datetime">
              <a:rPr b="1" lang="pl-PL" sz="1200" spc="-1" strike="noStrike">
                <a:solidFill>
                  <a:srgbClr val="000000"/>
                </a:solidFill>
                <a:latin typeface="Comic Sans MS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6D9B-B377-4418-80BE-BC5DD4CC8B9F}" type="slidenum">
              <a:rPr b="1" lang="pl-PL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Średnie wynagrodzenie nauczycie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żystów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9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7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7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aktow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9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2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anowan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6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4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2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6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yc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8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9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6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gół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8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óżnice między przeciętnym wynagrodzeniem na wsi i w mieście wg stopni awans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jwyższe wynagrodzenie uzyskują stażystki w przedszkolach - 1100 zł; najniższe w szkołach podstawowych bo 806 zł, co daje różnicę w wysokości aż 428 z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czyciele kontraktowi najlepiej są opłacani w szkołach zawodowych - 1533 zł, najgorzej zaś w przedszkolach - 1229 zł (różnica 304 zł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uczyciele mianowani to w przedszkolach 1768, a w zespołach placówek 2323 z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i to rozpiętość między 2486 zł w przedszkolach a 3069 w szkołach zawodowych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ana zarobkó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9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8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6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7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Średnie zarobk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39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8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41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26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5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48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óżnice net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4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3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0 3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zej dla potrzeby przyczynkarskiej odnotować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jwyższ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ypłacane wynagrodzenie w poszczególnych stopniach awansu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żyst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50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ntraktow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87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anowan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63 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plomowany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364 z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Średni koszt kształcenia we wszystkich placówkach wyniósł w 2003 roku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75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złote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 tego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88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6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8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4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a uczniów przypadających na jednego nauczyciela wynosiła średni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,1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zy czym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,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,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,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zba pracowników niepedagogicznych na 100 uczniów wynosiła średnio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przy czy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,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5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niżył się dość wyraźnie udział wydatków płacowych w wydatkach ogółem i wyniósł w roku 2003 przeciętni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,79%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rzy czy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mieści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3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 wsi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6,1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poszczególnych typach placówek udział ten wynosił w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zedszkolac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2,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podstaw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8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mnazja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ceach ogólnokształcąc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3,7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zkołach zawodowyc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,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cję taką można znaleźć na witrynie Ministerstwa Edukacj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jd ilustruje rozbieżność między deklarowaną przez ministerstwo wysokością przeciętnego wynagrodzenia nauczycieli a wynagrodzeniem osiągniętym realni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11DE-7FDC-4C72-AA72-DE9DDE6B9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3F8B-B0C4-474E-877B-8D54E3ED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4949-B246-45F3-BB1B-709F94D7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F0E-F8EC-4CB4-8061-4CF2F1CD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3D9B-50EA-4675-BF77-97711E3F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3E6B-A798-4C5B-8EBF-989EE082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C47-1E9A-41C1-A008-4B00EABB9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DB33-53EC-4964-A6B5-FEC13A73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285-9308-4DAA-AD5B-B405677A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EE8A-826D-4D00-B87F-2623DC992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CDC8-3341-4325-A9D0-F61F94E1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0E15-0085-4333-807A-C5D8980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974A-3272-497E-A0BD-C48FCC2EDE01}" type="datetime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26EE-CEDB-47BA-94EB-B3DB176F6A9E}" type="slidenum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429000" y="3200040"/>
            <a:ext cx="5410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Instyt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Badań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w Oświaci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prezentuj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BF1D-D22E-4D9B-A307-9E3B32E8CEDA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46D4-6A1F-46F3-B7BC-6AD79B027EE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7E51-BE91-473C-950C-0C85E4A7E120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81120" y="1990800"/>
          <a:ext cx="7866000" cy="409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90800"/>
                    <a:ext cx="786600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Wynagrodzenie wg awansu i typu placówk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944F-B402-439B-A447-05145D2DA6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3D93-AABD-427B-9AD4-6A2909C63B68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3880" y="1755720"/>
            <a:ext cx="7391520" cy="4264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A713-E5BD-4783-974E-F89CBB4951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EA98-93F1-43F6-86DC-0E1E4861A6F5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1120" y="1676520"/>
          <a:ext cx="8005680" cy="4952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676520"/>
                    <a:ext cx="8005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Mediana a średnia wynagrodze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9EC2-63E5-42D8-A068-9FBD19A045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AA9F8-EF99-410B-BE65-7497DC1D098F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361960" y="51055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Dziękuję za uwag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712960" y="1752480"/>
            <a:ext cx="3611520" cy="325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862B-4127-49E4-A0E5-89005590A2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429000" y="1904760"/>
            <a:ext cx="5410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Comic Sans MS"/>
              </a:rPr>
              <a:t>Wynagrodzenia nauczycieli w Polsce w roku 200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opr. dr A.Jeżowski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1877-CCC2-48A3-8F5C-CE743581542F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630A-BCF8-4B43-AA87-F9A61701A8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28724-C7DA-47D2-8D75-7B464390938F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2057400" y="1599840"/>
            <a:ext cx="6477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01 placówek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9 przedszko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3 szkoły podstawow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16 gimnazjó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4 licea ogólnokształcą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6 zespołów szkół ogólnokształcąc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0 szkół zawodowych i zespołów szkół zawodowyc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23 pozostałe placówki i ich zespoł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FAA6-201C-484A-8838-9F8FBE8158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69DF-3A6F-4948-A08D-7687A2AA9166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285640" y="1752480"/>
            <a:ext cx="624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52.668 ucznió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8.458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4.388 na w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4.358 nauczyciel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3.950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.445 innych pracowników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1.292 w mieśc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2BE0-BF12-42A5-8EAA-34D24E8B34C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C65B-7B2D-4DA7-BBDC-524533106CCC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057400" y="205704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Łączne wydatki w placówkach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97.720.654 z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w tym wydatki płacow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159.737.484 z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cc33"/>
                </a:solidFill>
                <a:latin typeface="Comic Sans MS"/>
              </a:rPr>
              <a:t>tj. 80.79%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C2F-173E-4F2C-A46B-6D1C0BFCE1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st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701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5554-69DF-4A9F-8FDE-30324AE131F4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1120" y="1990800"/>
          <a:ext cx="7829640" cy="409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1120" y="1990800"/>
                    <a:ext cx="782964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14400"/>
            <a:ext cx="7238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Comic Sans MS"/>
              </a:rPr>
              <a:t>Udział płac w wydatkach ogółem wg typów placówe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DB8-0219-45CB-A42B-7B104002D7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305C3-91B6-40EE-8D68-D99FB28C2D39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371240" y="2057040"/>
            <a:ext cx="7162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3333cc"/>
                </a:solidFill>
                <a:latin typeface="Comic Sans MS"/>
              </a:rPr>
              <a:t>Przeciętne wynagrodzenie (wg MENiS)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gospodarce narodowej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2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sektorze przedsiębiorstw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3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w sferze budżetowej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cc3300"/>
                </a:solidFill>
                <a:latin typeface="Comic Sans MS"/>
              </a:rPr>
              <a:t>2.27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nauczycieli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pl-PL" sz="3600" spc="-1" strike="noStrike">
                <a:solidFill>
                  <a:srgbClr val="ff0000"/>
                </a:solidFill>
                <a:latin typeface="Comic Sans MS"/>
              </a:rPr>
              <a:t>2.29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6F9-87D7-4859-8A65-146D64EBBA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A257-56BA-4247-BB4B-32BB1A7C38CC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138320" y="2362320"/>
            <a:ext cx="796608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7DE-A808-4593-8765-7BC156EFCD4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str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6324480"/>
            <a:ext cx="1828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ADCC-582D-44D1-8890-CA4317FAC50D}" type="datetime3">
              <a:rPr b="0" lang="pl-PL" sz="1400" spc="-1" strike="noStrike">
                <a:solidFill>
                  <a:srgbClr val="000000"/>
                </a:solidFill>
                <a:latin typeface="Tahoma"/>
              </a:rPr>
              <a:t>28 lipca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447920" y="988920"/>
            <a:ext cx="7000920" cy="5591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7D3-0064-4546-AE7C-FF10C0A394C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7:42:22Z</dcterms:created>
  <dc:creator>Antoni Jeżowski</dc:creator>
  <dc:description/>
  <dc:language>en-US</dc:language>
  <cp:lastModifiedBy>Antoni Jeżowski</cp:lastModifiedBy>
  <dcterms:modified xsi:type="dcterms:W3CDTF">2004-09-25T07:10:23Z</dcterms:modified>
  <cp:revision>14</cp:revision>
  <dc:subject/>
  <dc:title>Bez tytułu slajdu</dc:title>
</cp:coreProperties>
</file>